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D70-5C30-4DBD-9052-4D1F001D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D56-6D93-4627-AAEA-7F3EB0F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B89-6C72-4BAE-BEE0-FFEFEFD2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0B0-8F99-4B03-9DC8-DD42AC11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5C77-B49C-4203-B1AA-3C71826B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EF42-EC65-46ED-9D3D-22D2172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F171-6C2A-449B-B3B2-4AFB5F0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CF8C-606A-4C20-BB23-E499780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E4F3-CA49-4A28-BB20-68E95238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14D-CB27-440B-8484-744DAEA6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CC40-D15C-4E7C-82D7-D8979CE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2E0-3A67-4767-9923-1E701A3C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A76-DF29-4B92-9D37-27822E0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21B9-DA32-4133-ACE0-8BB5606F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3A5F-7411-48B4-B357-4C918B37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DAC3-0F86-4D1E-9399-2A76B7D8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4E01-38BD-49A6-8879-E7D81668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0F4-F991-4CBE-A655-60883297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AEA-4E1B-48C7-8D18-011D44C4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30A-939E-45B3-BA2F-62153331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3C9-B338-49A9-A3F4-67663464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ADC-2C7C-41B1-81D7-0001D0F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C32-87B8-4EBE-B453-CE46E56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980-E9A4-4832-8982-CFF520B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58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25a58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25a58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7C48-20E6-41E6-B4FA-8E766ADA7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76176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58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25a58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25a58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FEF1-9897-4C66-97B0-3128595F7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3760" y="3427560"/>
            <a:ext cx="2514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Arial"/>
              </a:rPr>
              <a:t>2003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0" t="0" r="0" b="13743"/>
          <a:stretch/>
        </p:blipFill>
        <p:spPr>
          <a:xfrm>
            <a:off x="1752480" y="3352680"/>
            <a:ext cx="3276720" cy="2743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5a583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648320" y="2209680"/>
          <a:ext cx="4190760" cy="23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19076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6"/>
          <p:cNvSpPr/>
          <p:nvPr/>
        </p:nvSpPr>
        <p:spPr>
          <a:xfrm>
            <a:off x="990720" y="2209680"/>
            <a:ext cx="35049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Textul conţine măcar un caracter care nu este cifr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Alinierea se face implicit la stâng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Dacă textul depăşeşte spaţiul celulei, suprascrie spaţiul celulei următoare, fără a anula celu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Dacă se introduce text şi în a doua celulă, textul din prima celulă apare trunchiat, putând fi vizualizat complet doar în câmpul Edit Formul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Simbolurile se introduc prin combinaţia Alt-Cod numeric (exemplu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£ =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0163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583"/>
                </a:solidFill>
                <a:latin typeface="Arial"/>
              </a:rPr>
              <a:t>Selectarea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5562720" y="1752480"/>
          <a:ext cx="22096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2209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5029200" y="2590920"/>
            <a:ext cx="447840" cy="51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10"/>
          <p:cNvGraphicFramePr/>
          <p:nvPr/>
        </p:nvGraphicFramePr>
        <p:xfrm>
          <a:off x="1600200" y="3048120"/>
          <a:ext cx="2286000" cy="179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8120"/>
                    <a:ext cx="2286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4"/>
          <p:cNvSpPr/>
          <p:nvPr/>
        </p:nvSpPr>
        <p:spPr>
          <a:xfrm>
            <a:off x="1492920" y="178452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area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întregii foi de luc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5257800" y="2438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Object 12"/>
          <p:cNvGraphicFramePr/>
          <p:nvPr/>
        </p:nvGraphicFramePr>
        <p:xfrm>
          <a:off x="5334120" y="4724280"/>
          <a:ext cx="2209680" cy="1882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724280"/>
                    <a:ext cx="220968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4"/>
          <p:cNvSpPr/>
          <p:nvPr/>
        </p:nvSpPr>
        <p:spPr>
          <a:xfrm>
            <a:off x="4479840" y="34606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5013360" y="34606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4267080" y="3733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electarea unei linii/colo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1143000" y="40384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8"/>
          <p:cNvSpPr/>
          <p:nvPr/>
        </p:nvSpPr>
        <p:spPr>
          <a:xfrm rot="5400000">
            <a:off x="2094840" y="308592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8"/>
          <a:stretch/>
        </p:blipFill>
        <p:spPr>
          <a:xfrm>
            <a:off x="2057400" y="2438280"/>
            <a:ext cx="44784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"/>
          <p:cNvPicPr/>
          <p:nvPr/>
        </p:nvPicPr>
        <p:blipFill>
          <a:blip r:embed="rId9"/>
          <a:stretch/>
        </p:blipFill>
        <p:spPr>
          <a:xfrm>
            <a:off x="1066680" y="4267080"/>
            <a:ext cx="44784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"/>
          <p:cNvPicPr/>
          <p:nvPr/>
        </p:nvPicPr>
        <p:blipFill>
          <a:blip r:embed="rId10"/>
          <a:stretch/>
        </p:blipFill>
        <p:spPr>
          <a:xfrm>
            <a:off x="-1905120" y="4114800"/>
            <a:ext cx="4478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"/>
          <p:cNvPicPr/>
          <p:nvPr/>
        </p:nvPicPr>
        <p:blipFill>
          <a:blip r:embed="rId11"/>
          <a:stretch/>
        </p:blipFill>
        <p:spPr>
          <a:xfrm>
            <a:off x="4724280" y="5715000"/>
            <a:ext cx="447840" cy="514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3"/>
          <p:cNvSpPr/>
          <p:nvPr/>
        </p:nvSpPr>
        <p:spPr>
          <a:xfrm>
            <a:off x="914400" y="5257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electarea unui domeni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24" descr=""/>
          <p:cNvPicPr/>
          <p:nvPr/>
        </p:nvPicPr>
        <p:blipFill>
          <a:blip r:embed="rId12"/>
          <a:stretch/>
        </p:blipFill>
        <p:spPr>
          <a:xfrm>
            <a:off x="380880" y="6019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5"/>
          <p:cNvSpPr/>
          <p:nvPr/>
        </p:nvSpPr>
        <p:spPr>
          <a:xfrm>
            <a:off x="990720" y="60958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33cc"/>
                </a:solidFill>
                <a:latin typeface="Verdana"/>
              </a:rPr>
              <a:t>Prima celula a zonei selectate are culoarea alb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4114800" y="3733920"/>
            <a:ext cx="3886200" cy="457200"/>
          </a:xfrm>
          <a:prstGeom prst="leftArrow">
            <a:avLst>
              <a:gd name="adj1" fmla="val 99167"/>
              <a:gd name="adj2" fmla="val 1447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29"/>
          <p:cNvSpPr/>
          <p:nvPr/>
        </p:nvSpPr>
        <p:spPr>
          <a:xfrm>
            <a:off x="1066680" y="5257800"/>
            <a:ext cx="4114800" cy="457200"/>
          </a:xfrm>
          <a:prstGeom prst="rightArrow">
            <a:avLst>
              <a:gd name="adj1" fmla="val 100000"/>
              <a:gd name="adj2" fmla="val 125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30"/>
          <p:cNvSpPr/>
          <p:nvPr/>
        </p:nvSpPr>
        <p:spPr>
          <a:xfrm>
            <a:off x="1371600" y="1752480"/>
            <a:ext cx="4114800" cy="457200"/>
          </a:xfrm>
          <a:prstGeom prst="rightArrow">
            <a:avLst>
              <a:gd name="adj1" fmla="val 100000"/>
              <a:gd name="adj2" fmla="val 125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5a583"/>
                </a:solidFill>
                <a:latin typeface="Arial"/>
              </a:rPr>
              <a:t>Copierea/Mutarea celulelor</a:t>
            </a:r>
            <a:br>
              <a:rPr sz="3200"/>
            </a:br>
            <a:r>
              <a:rPr b="0" lang="ro-RO" sz="3200" spc="-1" strike="noStrike">
                <a:solidFill>
                  <a:srgbClr val="25a583"/>
                </a:solidFill>
                <a:latin typeface="Arial"/>
              </a:rPr>
              <a:t>prin Drag and Drop</a:t>
            </a:r>
            <a:endParaRPr b="0" lang="en-US" sz="32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638680" y="2514600"/>
          <a:ext cx="271476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14600"/>
                    <a:ext cx="271476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6"/>
          <p:cNvSpPr/>
          <p:nvPr/>
        </p:nvSpPr>
        <p:spPr>
          <a:xfrm rot="10800000">
            <a:off x="7772400" y="3505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21932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Pentru a muta celulele, se ţine apăsat click stânga al mouse-ului pe conturul domeniului selectat (cursorul va fi      ) si se trage domeniul în direcţia dorită. Dacă se tine apăsată si tasta CTRL, celulele vor fi doar copi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360360" cy="284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5a583"/>
                </a:solidFill>
                <a:latin typeface="Arial"/>
              </a:rPr>
              <a:t>Copierea/Mutarea celulelor</a:t>
            </a:r>
            <a:br>
              <a:rPr sz="3200"/>
            </a:br>
            <a:r>
              <a:rPr b="0" lang="ro-RO" sz="3200" spc="-1" strike="noStrike">
                <a:solidFill>
                  <a:srgbClr val="25a583"/>
                </a:solidFill>
                <a:latin typeface="Arial"/>
              </a:rPr>
              <a:t>prin clipboard</a:t>
            </a:r>
            <a:endParaRPr b="0" lang="en-US" sz="32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190" name="Object 12"/>
          <p:cNvGraphicFramePr/>
          <p:nvPr/>
        </p:nvGraphicFramePr>
        <p:xfrm>
          <a:off x="4038480" y="3429000"/>
          <a:ext cx="20559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429000"/>
                    <a:ext cx="20559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7"/>
          <p:cNvGraphicFramePr/>
          <p:nvPr/>
        </p:nvGraphicFramePr>
        <p:xfrm>
          <a:off x="6477120" y="3429000"/>
          <a:ext cx="22082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429000"/>
                    <a:ext cx="22082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19" descr=""/>
          <p:cNvPicPr/>
          <p:nvPr/>
        </p:nvPicPr>
        <p:blipFill>
          <a:blip r:embed="rId5"/>
          <a:stretch/>
        </p:blipFill>
        <p:spPr>
          <a:xfrm>
            <a:off x="8153280" y="3505320"/>
            <a:ext cx="457200" cy="600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1576800" y="17082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Ordinea operaţiilo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87080" y="2133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elecţ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omeni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093120" y="2133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Co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copiere/mut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518800" y="213372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ege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destinaţ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7503120" y="21337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Comand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lip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2590920" y="22860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5029200" y="22860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6858000" y="22860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33520" y="4114800"/>
            <a:ext cx="3047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e pot folosi şi secvenţele de tas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Ctrl-C, Ctrl+X, Ctrl-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1" descr=""/>
          <p:cNvPicPr/>
          <p:nvPr/>
        </p:nvPicPr>
        <p:blipFill>
          <a:blip r:embed="rId6"/>
          <a:stretch/>
        </p:blipFill>
        <p:spPr>
          <a:xfrm>
            <a:off x="457200" y="5791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3"/>
          <p:cNvSpPr/>
          <p:nvPr/>
        </p:nvSpPr>
        <p:spPr>
          <a:xfrm>
            <a:off x="1295280" y="5791320"/>
            <a:ext cx="7239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033cc"/>
                </a:solidFill>
                <a:latin typeface="Verdana"/>
              </a:rPr>
              <a:t>Dacă domeniul sursă este mai mic decât domeniul destinaţie, se realizează umplerea automat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033cc"/>
                </a:solidFill>
                <a:latin typeface="Verdana"/>
              </a:rPr>
              <a:t>Dacă domeniul sursă este mai mare decât domeniul destinaţie, Excel dă mesaj de eroar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8"/>
          <p:cNvSpPr/>
          <p:nvPr/>
        </p:nvSpPr>
        <p:spPr>
          <a:xfrm>
            <a:off x="1066680" y="2209680"/>
            <a:ext cx="48769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Se realizează umplere automată pentru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Nume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Dată-or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Text (trebuie să conţină un numă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Zile, lun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Liste personalizate (Se creează din meniul Instrument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Opţiu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gt;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Liste personaliza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Copierea prin umplere automată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208" name="Object 10"/>
          <p:cNvGraphicFramePr/>
          <p:nvPr/>
        </p:nvGraphicFramePr>
        <p:xfrm>
          <a:off x="5867280" y="1981080"/>
          <a:ext cx="27241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981080"/>
                    <a:ext cx="27241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4" descr=""/>
          <p:cNvPicPr/>
          <p:nvPr/>
        </p:nvPicPr>
        <p:blipFill>
          <a:blip r:embed="rId3"/>
          <a:stretch/>
        </p:blipFill>
        <p:spPr>
          <a:xfrm>
            <a:off x="7696080" y="2362320"/>
            <a:ext cx="447840" cy="514080"/>
          </a:xfrm>
          <a:prstGeom prst="rect">
            <a:avLst/>
          </a:prstGeom>
          <a:ln w="0">
            <a:noFill/>
          </a:ln>
        </p:spPr>
      </p:pic>
      <p:sp>
        <p:nvSpPr>
          <p:cNvPr id="211" name="Line 13"/>
          <p:cNvSpPr/>
          <p:nvPr/>
        </p:nvSpPr>
        <p:spPr>
          <a:xfrm flipH="1" flipV="1">
            <a:off x="7391160" y="3580920"/>
            <a:ext cx="6094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7162920" y="37339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7620120" y="34290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Object 19"/>
          <p:cNvGraphicFramePr/>
          <p:nvPr/>
        </p:nvGraphicFramePr>
        <p:xfrm>
          <a:off x="2438280" y="4648320"/>
          <a:ext cx="3237120" cy="19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4648320"/>
                    <a:ext cx="3237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5a583"/>
                </a:solidFill>
                <a:latin typeface="Arial"/>
              </a:rPr>
              <a:t>Căutarea (Find) şi Înlocuirea (Replace)</a:t>
            </a:r>
            <a:endParaRPr b="0" lang="en-US" sz="32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217" name="Object 7"/>
          <p:cNvGraphicFramePr/>
          <p:nvPr/>
        </p:nvGraphicFramePr>
        <p:xfrm>
          <a:off x="5102280" y="2171880"/>
          <a:ext cx="3579840" cy="12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2280" y="2171880"/>
                    <a:ext cx="357984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9"/>
          <p:cNvGraphicFramePr/>
          <p:nvPr/>
        </p:nvGraphicFramePr>
        <p:xfrm>
          <a:off x="5102280" y="4135320"/>
          <a:ext cx="358128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2280" y="4135320"/>
                    <a:ext cx="358128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11"/>
          <p:cNvSpPr/>
          <p:nvPr/>
        </p:nvSpPr>
        <p:spPr>
          <a:xfrm>
            <a:off x="5270760" y="1784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Găsire (Ctrl-F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5285160" y="36576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Înlocuire (Ctrl-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5a583"/>
                </a:solidFill>
                <a:latin typeface="Arial"/>
              </a:rPr>
              <a:t>Modificarea liniilor/coloanelor/celulelor</a:t>
            </a:r>
            <a:endParaRPr b="0" lang="en-US" sz="3200" spc="-1" strike="noStrike">
              <a:solidFill>
                <a:srgbClr val="25a583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240336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8"/>
          <p:cNvGraphicFramePr/>
          <p:nvPr/>
        </p:nvGraphicFramePr>
        <p:xfrm>
          <a:off x="5486400" y="2133720"/>
          <a:ext cx="2209680" cy="14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133720"/>
                    <a:ext cx="220968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Picture 14" descr=""/>
          <p:cNvPicPr/>
          <p:nvPr/>
        </p:nvPicPr>
        <p:blipFill>
          <a:blip r:embed="rId4"/>
          <a:stretch/>
        </p:blipFill>
        <p:spPr>
          <a:xfrm>
            <a:off x="762120" y="3276720"/>
            <a:ext cx="447480" cy="514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514520" y="167652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dimension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519520" y="37339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Se introduc direct valori numer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5410080" y="2362320"/>
            <a:ext cx="221004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334520" y="4343400"/>
            <a:ext cx="72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Dacă sunt selectate mai multe rânduri/coloane, toate vor căpăta aceeaşi dimensiu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1295280" y="32004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03360" y="23623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18"/>
          <p:cNvSpPr/>
          <p:nvPr/>
        </p:nvSpPr>
        <p:spPr>
          <a:xfrm>
            <a:off x="2133720" y="2514600"/>
            <a:ext cx="533160" cy="304920"/>
          </a:xfrm>
          <a:prstGeom prst="leftRightArrow">
            <a:avLst>
              <a:gd name="adj1" fmla="val 50000"/>
              <a:gd name="adj2" fmla="val 3480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1523880" y="4724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inse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Object 20"/>
          <p:cNvGraphicFramePr/>
          <p:nvPr/>
        </p:nvGraphicFramePr>
        <p:xfrm>
          <a:off x="1523880" y="5257800"/>
          <a:ext cx="1685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257800"/>
                    <a:ext cx="1685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2"/>
          <p:cNvGraphicFramePr/>
          <p:nvPr/>
        </p:nvGraphicFramePr>
        <p:xfrm>
          <a:off x="5486400" y="2133720"/>
          <a:ext cx="2209680" cy="14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2133720"/>
                    <a:ext cx="220968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23"/>
          <p:cNvSpPr/>
          <p:nvPr/>
        </p:nvSpPr>
        <p:spPr>
          <a:xfrm>
            <a:off x="5410080" y="2362320"/>
            <a:ext cx="2210040" cy="76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1676520" y="5486400"/>
            <a:ext cx="129528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Sortarea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752480" y="2057400"/>
          <a:ext cx="225756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22575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181480" y="2057400"/>
          <a:ext cx="2533680" cy="26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057400"/>
                    <a:ext cx="253368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AutoShape 8"/>
          <p:cNvSpPr/>
          <p:nvPr/>
        </p:nvSpPr>
        <p:spPr>
          <a:xfrm>
            <a:off x="4267080" y="25146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066680" y="3886200"/>
            <a:ext cx="3429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Pentru a efectua sortarea, trebuie selectată o celulă aparţinând unei lis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e permite utilizarea a maximum trei criterii de sortare ordonate ierarh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583"/>
                </a:solidFill>
                <a:latin typeface="Arial"/>
              </a:rPr>
              <a:t>Formule de calcul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621800" y="160020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ele unei formu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3048120" y="2971800"/>
          <a:ext cx="34290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3429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8"/>
          <p:cNvSpPr/>
          <p:nvPr/>
        </p:nvSpPr>
        <p:spPr>
          <a:xfrm flipH="1" flipV="1">
            <a:off x="3429000" y="2819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432520" y="2362320"/>
            <a:ext cx="132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mnul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g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obligatori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0"/>
          <p:cNvSpPr/>
          <p:nvPr/>
        </p:nvSpPr>
        <p:spPr>
          <a:xfrm flipV="1">
            <a:off x="4419720" y="2209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4952880" y="2209680"/>
            <a:ext cx="3812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747680" y="1905120"/>
            <a:ext cx="42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zi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 (referinţe celulare, constante, domeni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4"/>
          <p:cNvSpPr/>
          <p:nvPr/>
        </p:nvSpPr>
        <p:spPr>
          <a:xfrm flipH="1" flipV="1">
            <a:off x="4343040" y="27428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4343040" y="27428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3978000" y="23623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7"/>
          <p:cNvSpPr/>
          <p:nvPr/>
        </p:nvSpPr>
        <p:spPr>
          <a:xfrm flipV="1">
            <a:off x="5867280" y="28954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6425640" y="2590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nte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653400" y="5334120"/>
            <a:ext cx="80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In definirea formulelor, este recomandat</a:t>
            </a:r>
            <a:r>
              <a:rPr b="0" lang="ro-RO" sz="1800" spc="-1" strike="noStrike">
                <a:solidFill>
                  <a:srgbClr val="0033cc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 utilizarea</a:t>
            </a:r>
            <a:r>
              <a:rPr b="0" lang="ro-RO" sz="1800" spc="-1" strike="noStrike">
                <a:solidFill>
                  <a:srgbClr val="0033cc"/>
                </a:solidFill>
                <a:latin typeface="Verdana"/>
              </a:rPr>
              <a:t> referinţelor celular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cc"/>
                </a:solidFill>
                <a:latin typeface="Verdana"/>
              </a:rPr>
              <a:t>trebuie evitate pe cât posibil valorile nume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7162920" y="350532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Alte element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funcţii, legend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Operatori şi referinţe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Operatori matematic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+ (adunare), - (scădere), * (înmulţire), / (împărţire), % (procent)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^ 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(exponen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Operatori de compar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, &gt;, &lt;, &gt;=, &lt;=, &lt;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ori de referin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ţă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: pentru domeniu (B7:B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; pentru enumerări de celule (B7;B9;B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Referinţ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Relativă: C2 (la copierea formulei, se vor schimba ambii indici, de linie şi coloană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Absolută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C$2 (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la copiere, indicii rămân ficş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Absolută de rând sau coloană: 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2, $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Ce este programul </a:t>
            </a:r>
            <a:r>
              <a:rPr b="0" lang="en-US" sz="3600" spc="-1" strike="noStrike">
                <a:solidFill>
                  <a:srgbClr val="25a583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licaţi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tru calcul tabe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Facilităţ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ea de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formule predefin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Realizarea de graf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Formatare avansată pentru tabe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Imprimarea documente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Compatibilitate cu celelalte aplicaţii din suita Off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583"/>
                </a:solidFill>
                <a:latin typeface="Arial"/>
              </a:rPr>
              <a:t>Erori </a:t>
            </a: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î</a:t>
            </a:r>
            <a:r>
              <a:rPr b="0" lang="en-US" sz="3600" spc="-1" strike="noStrike">
                <a:solidFill>
                  <a:srgbClr val="25a583"/>
                </a:solidFill>
                <a:latin typeface="Arial"/>
              </a:rPr>
              <a:t>n formule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600200" y="2438280"/>
          <a:ext cx="6097680" cy="2803680"/>
        </p:xfrm>
        <a:graphic>
          <a:graphicData uri="http://schemas.openxmlformats.org/drawingml/2006/table">
            <a:tbl>
              <a:tblPr/>
              <a:tblGrid>
                <a:gridCol w="3049560"/>
                <a:gridCol w="304812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####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are prea l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g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ă pentru a putea fi afişată în celu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DIV/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mpărţire la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Nam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scris greş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Value!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 operator sau un argument scris greş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Funcţii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Calculul sumelo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uncţi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3886200" y="1905120"/>
          <a:ext cx="304920" cy="27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905120"/>
                    <a:ext cx="304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1371600" y="2590920"/>
          <a:ext cx="2286000" cy="14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228600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1"/>
          <p:cNvGraphicFramePr/>
          <p:nvPr/>
        </p:nvGraphicFramePr>
        <p:xfrm>
          <a:off x="5181480" y="1676520"/>
          <a:ext cx="3353040" cy="27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676520"/>
                    <a:ext cx="335304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2"/>
          <p:cNvGraphicFramePr/>
          <p:nvPr/>
        </p:nvGraphicFramePr>
        <p:xfrm>
          <a:off x="4572000" y="4495680"/>
          <a:ext cx="3962520" cy="22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495680"/>
                    <a:ext cx="39625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13"/>
          <p:cNvSpPr/>
          <p:nvPr/>
        </p:nvSpPr>
        <p:spPr>
          <a:xfrm>
            <a:off x="762120" y="4648320"/>
            <a:ext cx="3200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uncţii importan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BS (modul), ROUND (rotunjire la cel mai apropiat întreg), SIN (sinus), COS (cosinu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Formatarea celulelor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952880" y="2209680"/>
          <a:ext cx="3579840" cy="33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209680"/>
                    <a:ext cx="357984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8"/>
          <p:cNvGraphicFramePr/>
          <p:nvPr/>
        </p:nvGraphicFramePr>
        <p:xfrm>
          <a:off x="1447920" y="2362320"/>
          <a:ext cx="2209680" cy="21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362320"/>
                    <a:ext cx="2209680" cy="21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AutoShape 11"/>
          <p:cNvSpPr/>
          <p:nvPr/>
        </p:nvSpPr>
        <p:spPr>
          <a:xfrm>
            <a:off x="3886200" y="30481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5077440" y="5823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Formatarea numere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Formatarea celulelor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290" name="Object 4"/>
          <p:cNvGraphicFramePr/>
          <p:nvPr/>
        </p:nvGraphicFramePr>
        <p:xfrm>
          <a:off x="1066680" y="2209680"/>
          <a:ext cx="357984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357984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6"/>
          <p:cNvGraphicFramePr/>
          <p:nvPr/>
        </p:nvGraphicFramePr>
        <p:xfrm>
          <a:off x="5029200" y="2209680"/>
          <a:ext cx="3581280" cy="339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209680"/>
                    <a:ext cx="358128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Text Box 8"/>
          <p:cNvSpPr/>
          <p:nvPr/>
        </p:nvSpPr>
        <p:spPr>
          <a:xfrm>
            <a:off x="1506600" y="582300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inierea textului din celule         Formatarea conţinutului celule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Formatarea celulelor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296" name="Object 4"/>
          <p:cNvGraphicFramePr/>
          <p:nvPr/>
        </p:nvGraphicFramePr>
        <p:xfrm>
          <a:off x="1219320" y="2209680"/>
          <a:ext cx="357984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357984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6"/>
          <p:cNvGraphicFramePr/>
          <p:nvPr/>
        </p:nvGraphicFramePr>
        <p:xfrm>
          <a:off x="5029200" y="2209680"/>
          <a:ext cx="358128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209680"/>
                    <a:ext cx="35812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8"/>
          <p:cNvSpPr/>
          <p:nvPr/>
        </p:nvSpPr>
        <p:spPr>
          <a:xfrm>
            <a:off x="1315440" y="5823000"/>
            <a:ext cx="71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Modificarea conturului celulelor   Modificarea fundalului celule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Grafice (diagrame)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1752480" y="1905120"/>
          <a:ext cx="38124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38124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6"/>
          <p:cNvGraphicFramePr/>
          <p:nvPr/>
        </p:nvGraphicFramePr>
        <p:xfrm>
          <a:off x="2819520" y="1676520"/>
          <a:ext cx="15890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15890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8"/>
          <p:cNvSpPr/>
          <p:nvPr/>
        </p:nvSpPr>
        <p:spPr>
          <a:xfrm>
            <a:off x="160020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7" name="Object 9"/>
          <p:cNvGraphicFramePr/>
          <p:nvPr/>
        </p:nvGraphicFramePr>
        <p:xfrm>
          <a:off x="4419720" y="2790720"/>
          <a:ext cx="4359240" cy="336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790720"/>
                    <a:ext cx="4359240" cy="33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11"/>
          <p:cNvSpPr/>
          <p:nvPr/>
        </p:nvSpPr>
        <p:spPr>
          <a:xfrm>
            <a:off x="1905120" y="4343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egerea tipului de diagram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2210040" y="5289480"/>
            <a:ext cx="35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Diagrame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312" name="Object 7"/>
          <p:cNvGraphicFramePr/>
          <p:nvPr/>
        </p:nvGraphicFramePr>
        <p:xfrm>
          <a:off x="3809880" y="1905120"/>
          <a:ext cx="434340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905120"/>
                    <a:ext cx="43434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Text Box 9"/>
          <p:cNvSpPr/>
          <p:nvPr/>
        </p:nvSpPr>
        <p:spPr>
          <a:xfrm>
            <a:off x="685800" y="3079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egerea seriei (seriilor) ce se doresc a fi reprezentate graf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210040" y="5289480"/>
            <a:ext cx="35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Diagrame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5800" y="30798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Modificarea aspectului diagramei (inserarea de titluri, legendă, modificare culori, fonturi, ax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8" name="Object 6"/>
          <p:cNvGraphicFramePr/>
          <p:nvPr/>
        </p:nvGraphicFramePr>
        <p:xfrm>
          <a:off x="4038480" y="2362320"/>
          <a:ext cx="44863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362320"/>
                    <a:ext cx="44863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8"/>
          <p:cNvSpPr/>
          <p:nvPr/>
        </p:nvSpPr>
        <p:spPr>
          <a:xfrm>
            <a:off x="2210040" y="5289480"/>
            <a:ext cx="35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Diagrame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210040" y="5289480"/>
            <a:ext cx="35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3276720" y="2057400"/>
          <a:ext cx="515304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515304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8"/>
          <p:cNvSpPr/>
          <p:nvPr/>
        </p:nvSpPr>
        <p:spPr>
          <a:xfrm>
            <a:off x="228600" y="3581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Inserare în pagină si modificarea individuală a elementelor (suprafaţă de reprezentare, axe, linii de grilă, serii de dat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25a583"/>
                </a:solidFill>
                <a:latin typeface="Arial"/>
              </a:rPr>
              <a:t>va urma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Deschiderea programului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Pictograma de pe deskt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Deschiderea unui fisier cu extensie .x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Verdana"/>
              </a:rPr>
              <a:t>Meniul de sta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6523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2"/>
          <a:stretch/>
        </p:blipFill>
        <p:spPr>
          <a:xfrm>
            <a:off x="6477120" y="3124080"/>
            <a:ext cx="685800" cy="6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Object 15"/>
          <p:cNvGraphicFramePr/>
          <p:nvPr/>
        </p:nvGraphicFramePr>
        <p:xfrm>
          <a:off x="4419720" y="4343400"/>
          <a:ext cx="411480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4343400"/>
                    <a:ext cx="41148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13"/>
          <p:cNvGraphicFramePr/>
          <p:nvPr/>
        </p:nvGraphicFramePr>
        <p:xfrm>
          <a:off x="2743200" y="2057400"/>
          <a:ext cx="5410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057400"/>
                    <a:ext cx="5410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Fereastra principală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295280" y="1828800"/>
            <a:ext cx="1219320" cy="533520"/>
          </a:xfrm>
          <a:prstGeom prst="wedgeRoundRectCallout">
            <a:avLst>
              <a:gd name="adj1" fmla="val 75000"/>
              <a:gd name="adj2" fmla="val 389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Bara de meniu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1143000" y="2514600"/>
            <a:ext cx="1371600" cy="533520"/>
          </a:xfrm>
          <a:prstGeom prst="wedgeRoundRectCallout">
            <a:avLst>
              <a:gd name="adj1" fmla="val 76041"/>
              <a:gd name="adj2" fmla="val -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Bare de instru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9"/>
          <p:cNvSpPr/>
          <p:nvPr/>
        </p:nvSpPr>
        <p:spPr>
          <a:xfrm flipH="1">
            <a:off x="3505320" y="6324480"/>
            <a:ext cx="2031840" cy="304920"/>
          </a:xfrm>
          <a:prstGeom prst="wedgeRoundRectCallout">
            <a:avLst>
              <a:gd name="adj1" fmla="val 53356"/>
              <a:gd name="adj2" fmla="val -17864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Foi de calcu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5410080" y="4419720"/>
            <a:ext cx="1143000" cy="533160"/>
          </a:xfrm>
          <a:prstGeom prst="wedgeRoundRectCallout">
            <a:avLst>
              <a:gd name="adj1" fmla="val -20694"/>
              <a:gd name="adj2" fmla="val -440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Suprafaţa de luc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15"/>
          <p:cNvSpPr/>
          <p:nvPr/>
        </p:nvSpPr>
        <p:spPr>
          <a:xfrm flipH="1">
            <a:off x="1066680" y="3276720"/>
            <a:ext cx="1371600" cy="533160"/>
          </a:xfrm>
          <a:prstGeom prst="wedgeRoundRectCallout">
            <a:avLst>
              <a:gd name="adj1" fmla="val -101388"/>
              <a:gd name="adj2" fmla="val -9881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Capete de coloan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3657600" y="1676520"/>
            <a:ext cx="2514600" cy="304560"/>
          </a:xfrm>
          <a:prstGeom prst="wedgeRoundRectCallout">
            <a:avLst>
              <a:gd name="adj1" fmla="val 13634"/>
              <a:gd name="adj2" fmla="val 8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Bara de tit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9"/>
          <p:cNvSpPr/>
          <p:nvPr/>
        </p:nvSpPr>
        <p:spPr>
          <a:xfrm flipH="1">
            <a:off x="3048120" y="3124080"/>
            <a:ext cx="1295280" cy="304920"/>
          </a:xfrm>
          <a:prstGeom prst="wedgeRoundRectCallout">
            <a:avLst>
              <a:gd name="adj1" fmla="val 36518"/>
              <a:gd name="adj2" fmla="val -1531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Nam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20"/>
          <p:cNvSpPr/>
          <p:nvPr/>
        </p:nvSpPr>
        <p:spPr>
          <a:xfrm flipH="1">
            <a:off x="4799880" y="3124080"/>
            <a:ext cx="2438280" cy="533520"/>
          </a:xfrm>
          <a:prstGeom prst="wedgeRoundRectCallout">
            <a:avLst>
              <a:gd name="adj1" fmla="val 24087"/>
              <a:gd name="adj2" fmla="val -1089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Câmpul de introducere a formul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21"/>
          <p:cNvSpPr/>
          <p:nvPr/>
        </p:nvSpPr>
        <p:spPr>
          <a:xfrm flipH="1">
            <a:off x="990000" y="5867280"/>
            <a:ext cx="1523880" cy="609840"/>
          </a:xfrm>
          <a:prstGeom prst="wedgeRoundRectCallout">
            <a:avLst>
              <a:gd name="adj1" fmla="val -79273"/>
              <a:gd name="adj2" fmla="val -33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Butoa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de derul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2"/>
          <p:cNvSpPr/>
          <p:nvPr/>
        </p:nvSpPr>
        <p:spPr>
          <a:xfrm flipH="1">
            <a:off x="1066680" y="4648320"/>
            <a:ext cx="1371600" cy="533160"/>
          </a:xfrm>
          <a:prstGeom prst="wedgeRoundRectCallout">
            <a:avLst>
              <a:gd name="adj1" fmla="val -77546"/>
              <a:gd name="adj2" fmla="val -7857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Capete d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â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Foi de calcul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164360" cy="38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Fişierele Excel (workbook) sunt împărţite în foi de calcul (workshee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5257800" y="2438280"/>
          <a:ext cx="269568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438280"/>
                    <a:ext cx="26956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6"/>
          <p:cNvSpPr/>
          <p:nvPr/>
        </p:nvSpPr>
        <p:spPr>
          <a:xfrm>
            <a:off x="1355760" y="2622600"/>
            <a:ext cx="26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143000" y="274320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Foile de calcul pot fi redenumite, prin dublu click de mouse pe numele acest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19320" y="449568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Se pot insera, şterge sau redenumi foi de calcul, prin click dreapta de mo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11"/>
          <p:cNvGraphicFramePr/>
          <p:nvPr/>
        </p:nvGraphicFramePr>
        <p:xfrm>
          <a:off x="5334120" y="4114800"/>
          <a:ext cx="288108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114800"/>
                    <a:ext cx="2881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Foi de calcul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Foile de calcul sunt alcătuite din celule, grupate pe linii şi coloan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Pot exista maximum 65536 de linii, identificate prin cifre (1, 7, 11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Pot exista maximum 256 de coloane, identificate prin majuscule (A, H, BK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O celulă este identificată unic prin codul ei (A2, B5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Celula activă este cea pe care se găseşte cursorul; are chenar îngroşat, numele ei apare în Name Bo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Celulele pot fi redenumite, scriind noul nume în Name Bo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572080" y="1827360"/>
          <a:ext cx="2962440" cy="22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7360"/>
                    <a:ext cx="296244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5715000" y="4419720"/>
          <a:ext cx="2076480" cy="16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4419720"/>
                    <a:ext cx="20764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Line 8"/>
          <p:cNvSpPr/>
          <p:nvPr/>
        </p:nvSpPr>
        <p:spPr>
          <a:xfrm flipH="1" flipV="1">
            <a:off x="6248520" y="28951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624640" y="4830840"/>
            <a:ext cx="83808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Cursorul mouse-ului în Excel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43000" y="1828800"/>
          <a:ext cx="7620120" cy="4343400"/>
        </p:xfrm>
        <a:graphic>
          <a:graphicData uri="http://schemas.openxmlformats.org/drawingml/2006/table">
            <a:tbl>
              <a:tblPr/>
              <a:tblGrid>
                <a:gridCol w="2747880"/>
                <a:gridCol w="4872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uce alb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 foaie şi pe capetele de rânduri şi coloan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sor cu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erea datelor în cel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ăgeată dubl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imensionarea liniilor şi coloane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uce neagr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erea conţinutului celule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n de întreb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j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75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380880" cy="34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8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1" descr=""/>
          <p:cNvPicPr/>
          <p:nvPr/>
        </p:nvPicPr>
        <p:blipFill>
          <a:blip r:embed="rId3"/>
          <a:stretch/>
        </p:blipFill>
        <p:spPr>
          <a:xfrm>
            <a:off x="16765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5" descr=""/>
          <p:cNvPicPr/>
          <p:nvPr/>
        </p:nvPicPr>
        <p:blipFill>
          <a:blip r:embed="rId4"/>
          <a:stretch/>
        </p:blipFill>
        <p:spPr>
          <a:xfrm>
            <a:off x="2209680" y="4800600"/>
            <a:ext cx="381240" cy="328680"/>
          </a:xfrm>
          <a:prstGeom prst="rect">
            <a:avLst/>
          </a:prstGeom>
          <a:ln w="0">
            <a:noFill/>
          </a:ln>
        </p:spPr>
      </p:pic>
      <p:sp>
        <p:nvSpPr>
          <p:cNvPr id="138" name="Line 91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5" descr=""/>
          <p:cNvPicPr/>
          <p:nvPr/>
        </p:nvPicPr>
        <p:blipFill>
          <a:blip r:embed="rId5"/>
          <a:stretch/>
        </p:blipFill>
        <p:spPr>
          <a:xfrm>
            <a:off x="2209680" y="5715000"/>
            <a:ext cx="457200" cy="44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Introducerea datelor în celule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Se pot int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Valori numer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Verdana"/>
              </a:rPr>
              <a:t>Datele se pot introduce numai într-o celulă selectat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5a58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Există două moduri de a introduce date în celul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Apăsând F2 sau executând dublu-click pe celulă, datele se vor introduce în celula selectată, confirmarea se face cu Enter, iar ştergerea cu Delete sau Backsp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În bara de introducere a formule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6168960" y="2089080"/>
          <a:ext cx="144792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8960" y="2089080"/>
                    <a:ext cx="144792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7"/>
          <p:cNvGraphicFramePr/>
          <p:nvPr/>
        </p:nvGraphicFramePr>
        <p:xfrm>
          <a:off x="3886200" y="4876920"/>
          <a:ext cx="4572000" cy="16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4876920"/>
                    <a:ext cx="457200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9"/>
          <p:cNvSpPr/>
          <p:nvPr/>
        </p:nvSpPr>
        <p:spPr>
          <a:xfrm>
            <a:off x="5336280" y="45277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terg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657040" y="541008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onfirm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548640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2"/>
          <p:cNvSpPr/>
          <p:nvPr/>
        </p:nvSpPr>
        <p:spPr>
          <a:xfrm flipH="1" flipV="1">
            <a:off x="5867280" y="50292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25a583"/>
                </a:solidFill>
                <a:latin typeface="Arial"/>
              </a:rPr>
              <a:t>Numere</a:t>
            </a:r>
            <a:endParaRPr b="0" lang="en-US" sz="3600" spc="-1" strike="noStrike">
              <a:solidFill>
                <a:srgbClr val="25a583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4952880" y="2133720"/>
          <a:ext cx="3810240" cy="27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133720"/>
                    <a:ext cx="381024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6"/>
          <p:cNvSpPr/>
          <p:nvPr/>
        </p:nvSpPr>
        <p:spPr>
          <a:xfrm>
            <a:off x="914400" y="1981080"/>
            <a:ext cx="38862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Celulele care conţin numai cifre sunt interpretate ca nume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Nu trebuie să existe nici un alt simbol, in afară de separatorul zecimal sau – pentru numere negat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Alinierea se face implicit la dreap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Dacă se depăşeşte spaţiul celulei, numărul se afişează în format ştiinţific sau va fi rotunjit la cea mai apropiată zecimală, iar numărul complet se observă numai în câmpul Edit Formula; calculele se vor face cu valoarea real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8:17:49Z</dcterms:created>
  <dc:creator>Quadrant</dc:creator>
  <dc:description/>
  <dc:language>en-US</dc:language>
  <cp:lastModifiedBy>Volador</cp:lastModifiedBy>
  <dcterms:modified xsi:type="dcterms:W3CDTF">2017-01-11T07:39:13Z</dcterms:modified>
  <cp:revision>25</cp:revision>
  <dc:subject/>
  <dc:title>Software pentru birotică</dc:title>
</cp:coreProperties>
</file>