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d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305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d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3480" y="1447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13480" y="39952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d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65920" y="144792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4280" y="144792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65920" y="399528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4280" y="399528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D5D3-B9BB-47EF-86F2-19EF8065A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d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CCA4-4D1F-4EFB-B95B-A511521D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d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9019-A05F-4F42-9395-5279EB2C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d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53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447920"/>
            <a:ext cx="4053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BA79-5D0D-4154-B896-9F9AC43E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BDD9-16AB-4A3C-8502-58EA22C7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2F0D-B9EF-4293-915C-A7BA9A0D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d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3480" y="1447920"/>
            <a:ext cx="4053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5DC7-D1F5-44A0-A1C0-5CC5803D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d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d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53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3480" y="1447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13480" y="39952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15BF-A9E0-4F20-8954-FA80061D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d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3480" y="1447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305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789F-A3E3-46FF-937F-3E4F583F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d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305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70E3-23E6-4E0E-8504-BE2E7D5F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d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3480" y="1447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13480" y="39952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502C-1724-4D90-BFCB-42A1A81DD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d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65920" y="144792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74280" y="144792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65920" y="399528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74280" y="399528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75BB-36D7-41D8-8E08-91824C8D5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d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d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53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3480" y="1447920"/>
            <a:ext cx="4053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d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d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3480" y="1447920"/>
            <a:ext cx="4053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d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53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3480" y="1447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13480" y="39952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7d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447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305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rebuchet MS"/>
              </a:rPr>
              <a:t>Click to edit the title text format</a:t>
            </a:r>
            <a:endParaRPr b="1" lang="en-US" sz="2400" spc="-1" strike="noStrike">
              <a:solidFill>
                <a:srgbClr val="00007d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2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rebuchet MS"/>
              </a:rPr>
              <a:t>Click to edit the title text format</a:t>
            </a:r>
            <a:endParaRPr b="1" lang="en-US" sz="2400" spc="-1" strike="noStrike">
              <a:solidFill>
                <a:srgbClr val="00007d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B91F-15C6-4882-B866-72A97D0427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rebuchet MS"/>
              </a:rPr>
              <a:t>Tema</a:t>
            </a:r>
            <a:endParaRPr b="1" lang="en-US" sz="2400" spc="-1" strike="noStrike">
              <a:solidFill>
                <a:srgbClr val="00007d"/>
              </a:solidFill>
              <a:latin typeface="Trebuchet MS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1"/>
          <p:cNvGraphicFramePr/>
          <p:nvPr/>
        </p:nvGraphicFramePr>
        <p:xfrm>
          <a:off x="609480" y="1905120"/>
          <a:ext cx="78836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05120"/>
                    <a:ext cx="78836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11:15:09Z</dcterms:created>
  <dc:creator>Wanderer</dc:creator>
  <dc:description/>
  <dc:language>en-US</dc:language>
  <cp:lastModifiedBy>miniAthlon</cp:lastModifiedBy>
  <dcterms:modified xsi:type="dcterms:W3CDTF">2013-10-21T14:03:39Z</dcterms:modified>
  <cp:revision>46</cp:revision>
  <dc:subject/>
  <dc:title>MODELE ALE PIEŢEI DE ENERGIE</dc:title>
</cp:coreProperties>
</file>