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592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428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592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428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C94-0FD3-4A07-BD69-1CA6290E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5DD-F88D-48A6-A59E-562307B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642-FE11-4C29-8E8B-56D45B5B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D39-36DD-4FF6-8394-2DD9789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008-6C54-4D0D-BD84-4FCF326E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C69-909B-4E08-BFFB-F7FC5EB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B77-E9DB-4781-94FA-C026C5C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5C0-3810-4325-BF36-B98FA0A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5C0-CDB8-495C-8015-0A1B998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158-1927-4D48-AFA5-8D9DEDC3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29D-807F-4F32-B4BB-50D236C6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6592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7428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6592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7428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214-8046-43F8-8B19-8E795D23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42B1-DA75-4228-B22F-8D0D49EFD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7d"/>
                </a:solidFill>
                <a:latin typeface="Trebuchet MS"/>
              </a:rPr>
              <a:t>APLICAŢIE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1295280"/>
          <a:ext cx="82742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2742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Box 5"/>
          <p:cNvSpPr/>
          <p:nvPr/>
        </p:nvSpPr>
        <p:spPr>
          <a:xfrm>
            <a:off x="1676520" y="5029200"/>
            <a:ext cx="5638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Ipote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ără restric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u restricţii (P</a:t>
            </a:r>
            <a:r>
              <a:rPr b="0" lang="ro-RO" sz="1800" spc="-1" strike="noStrike" baseline="-25000">
                <a:solidFill>
                  <a:srgbClr val="000000"/>
                </a:solidFill>
                <a:latin typeface="Trebuchet MS"/>
              </a:rPr>
              <a:t>max</a:t>
            </a:r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L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= 275 MW</a:t>
            </a:r>
            <a:r>
              <a:rPr b="0" lang="ro-RO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Tabel calcule – aplica</a:t>
            </a:r>
            <a:r>
              <a:rPr b="1" lang="ro-RO" sz="2400" spc="-1" strike="noStrike">
                <a:solidFill>
                  <a:srgbClr val="00007d"/>
                </a:solidFill>
                <a:latin typeface="Trebuchet MS"/>
              </a:rPr>
              <a:t>ţ</a:t>
            </a: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ie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1676520"/>
          <a:ext cx="6781680" cy="4114800"/>
        </p:xfrm>
        <a:graphic>
          <a:graphicData uri="http://schemas.openxmlformats.org/drawingml/2006/table">
            <a:tbl>
              <a:tblPr/>
              <a:tblGrid>
                <a:gridCol w="1392120"/>
                <a:gridCol w="895320"/>
                <a:gridCol w="895320"/>
                <a:gridCol w="1204920"/>
                <a:gridCol w="1112760"/>
                <a:gridCol w="1281240"/>
              </a:tblGrid>
              <a:tr h="880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rdona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ă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a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MW 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 produc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.m. 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nt consuma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.m. 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5:09Z</dcterms:created>
  <dc:creator>Wanderer</dc:creator>
  <dc:description/>
  <dc:language>en-US</dc:language>
  <cp:lastModifiedBy>miniAthlon</cp:lastModifiedBy>
  <dcterms:modified xsi:type="dcterms:W3CDTF">2013-10-21T12:35:32Z</dcterms:modified>
  <cp:revision>47</cp:revision>
  <dc:subject/>
  <dc:title>MODELE ALE PIEŢEI DE ENERGIE</dc:title>
</cp:coreProperties>
</file>