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FE44-2C28-4DE5-83D9-202B0C3B4D5E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07E2-E5C5-4B20-B3AD-63DDC3FC61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F52-B23E-450C-B73C-30247096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B4E-27EE-4BEF-922D-0A29B828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638-79A8-4432-A47B-9080CC49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757-9837-487F-B670-835078DB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A5E8E-AD7D-4D61-914C-3C94BE65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066B8-9446-496D-9666-4493B98C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43075-E260-409F-8C02-886BA956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F204-D312-41C5-BF2D-E4B96D00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6E352-F118-4706-B535-5CEFB007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7E6B0-CF86-46D6-B215-299739A9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1B81B-4554-4502-A528-C360354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B0B-5D68-4D60-81DE-323D27E8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3AA0F-9F99-4CF9-9CC2-2A59A3F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FD1DB-A3E6-4562-9F9A-28B1B43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FFEFC-CE48-4EC9-BE79-32E5DFBD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ADB12-DFEB-40E5-ABFC-287CE3A9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BA995-CDFF-44CA-B595-3533C2D1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218E9-22A8-48C8-8684-D12FF8BB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F2657-4470-4E9F-B014-00F0A16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9D72A-1F24-4998-A721-CDEDF209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29380-C725-4D59-B703-C9D0D7AA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040C8-981A-43F0-BAC9-DDAA9DA9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DE1-FA92-416A-9FEB-C1DF1209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C68DB-3CEB-4DF2-A4CD-CE4B681B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EF5BB-70EC-40B9-8C2A-FED7FBB1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C33ED-AD06-4722-81CF-FBDCD206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84D9A-D6CC-422E-8EFF-417A8F0D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FE166-1754-435C-AFFF-1AE42800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8DDEB-9E1C-46EA-94E6-124A09F2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5D2C6-F8CF-4DFC-B8CF-83E0D0F6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85E-E322-4B92-BD14-F548EB7E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F29-B1EC-4CFB-A2F7-692740E9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E5F-AA17-4A59-B444-E7B6E0F2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5A5-D61D-4D7F-A1CE-4103041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801-EDA0-492F-B7C8-2E9087F5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38B-7AE5-4D43-A4D4-A44D4451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F72-BDA6-4E34-9B79-2A3A67D352E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Conector drept 10"/>
          <p:cNvSpPr/>
          <p:nvPr/>
        </p:nvSpPr>
        <p:spPr>
          <a:xfrm>
            <a:off x="152280" y="1371600"/>
            <a:ext cx="716292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Conector drept 10"/>
          <p:cNvSpPr/>
          <p:nvPr/>
        </p:nvSpPr>
        <p:spPr>
          <a:xfrm>
            <a:off x="152280" y="1371600"/>
            <a:ext cx="716292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1.jpg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mage2.png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image3.png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image4.png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536D-FCFA-4E25-998A-1DEC1E8E9BA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Conector drept 10"/>
          <p:cNvSpPr/>
          <p:nvPr/>
        </p:nvSpPr>
        <p:spPr>
          <a:xfrm>
            <a:off x="152280" y="1371600"/>
            <a:ext cx="716292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086B-F777-4137-9FB5-0B4993ABCD55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flickr.com/photos/26050788@N03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218960" y="5105160"/>
            <a:ext cx="746748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orbel"/>
              </a:rPr>
              <a:t>Algoritme genet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09520" y="3606480"/>
            <a:ext cx="75772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isteme cu Inteligen</a:t>
            </a:r>
            <a:r>
              <a:rPr b="0" lang="ro-RO" sz="4000" spc="-1" strike="noStrike">
                <a:solidFill>
                  <a:srgbClr val="000000"/>
                </a:solidFill>
                <a:latin typeface="Corbel"/>
              </a:rPr>
              <a:t>ţă Artificială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Se generează un set de soluţii valide ale problemei, codificate sub forma unor şiruri de caracte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140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(zecimal) &lt;&lt;&lt;  &gt;&gt;&gt;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 10001100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bina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Performanţele soluţiilor se măsoară prin funcţia lor de adapt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Corbel"/>
              </a:rPr>
              <a:t>Populaţia iniţial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1447920" y="3657600"/>
            <a:ext cx="5724360" cy="28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Selec</a:t>
            </a:r>
            <a:r>
              <a:rPr b="0" lang="ro-RO" sz="3600" spc="-1" strike="noStrike">
                <a:solidFill>
                  <a:srgbClr val="000000"/>
                </a:solidFill>
                <a:latin typeface="Corbel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i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Soluţiile mai bine adaptate se multiplică,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 în timp ce soluţiile mai slab adaptate sunt elimina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Se păstrează acelaşi număr de indivizi în populaţ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Selecţia se face în funcţie de valoarea funcţiei de adapt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Se păstrează şi cromozomi mai slabi adaptaţi, deoarece secvenţe din structura lor pot conţine fragmente din soluţia optim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Corbel"/>
              </a:rPr>
              <a:t>Încrucişar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Perechi de cromozomi schimbă între ei informaţi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52" name="Picture 450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6096240" cy="260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Corbel"/>
              </a:rPr>
              <a:t>Mutaţi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Schimbări punctuale aleatoare în structura unui cromoz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724360" cy="285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600200" y="4343400"/>
            <a:ext cx="5781600" cy="333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6"/>
          <p:cNvSpPr/>
          <p:nvPr/>
        </p:nvSpPr>
        <p:spPr>
          <a:xfrm>
            <a:off x="4114800" y="365760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ea0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3657600" y="4191120"/>
            <a:ext cx="914400" cy="761760"/>
          </a:xfrm>
          <a:prstGeom prst="ellipse">
            <a:avLst/>
          </a:prstGeom>
          <a:noFill/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Corbel"/>
              </a:rPr>
              <a:t>AG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447920" y="1676520"/>
            <a:ext cx="5573520" cy="482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Formarea populaţiei iniţiale şi iniţializarea contorului de generaţ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Evaluarea funcţiilor de adaptare pentru cromozomii din populaţia iniţial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ocesul iterativ, aplicarea operatorilor geneti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Selectarea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celor mai bine adaptaţi cromozomi din populaţia curent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Încrucişarea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cromozomilor-părinţi din populaţia curentă şi obţinerea cromozomilor-urmaş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plicarea 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mutaţiilor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cromozomilor-urmaşi din generaţia curent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Formarea populaţiei pentru noua generaţie şi evaluarea funcţiilor de adaptare ale cromozomilor aceste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recerea la generaţia următo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until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{</a:t>
            </a:r>
            <a:r>
              <a:rPr b="0" i="1" lang="en-US" sz="1400" spc="-1" strike="noStrike">
                <a:solidFill>
                  <a:srgbClr val="000000"/>
                </a:solidFill>
                <a:latin typeface="Corbel"/>
              </a:rPr>
              <a:t>criteriu de oprire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rbel"/>
              </a:rPr>
              <a:t>Soluţia optimă determinată de către algoritm corespunde cromozomului cu funcţia de adaptare maximă din ultima generaţ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391160" y="59432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Corbel"/>
              </a:rPr>
              <a:t>mage by </a:t>
            </a:r>
            <a:r>
              <a:rPr b="0" lang="ro-RO" sz="1200" spc="-1" strike="noStrike" u="sng">
                <a:solidFill>
                  <a:srgbClr val="00c8c3"/>
                </a:solidFill>
                <a:uFillTx/>
                <a:latin typeface="Corbel"/>
                <a:hlinkClick r:id="rId2"/>
              </a:rPr>
              <a:t>jgrebedw</a:t>
            </a:r>
            <a:r>
              <a:rPr b="0" lang="ro-RO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2060"/>
                </a:solidFill>
                <a:latin typeface="Corbel"/>
              </a:rPr>
              <a:t>… </a:t>
            </a:r>
            <a:r>
              <a:rPr b="0" lang="ro-RO" sz="3600" spc="-1" strike="noStrike">
                <a:solidFill>
                  <a:srgbClr val="002060"/>
                </a:solidFill>
                <a:latin typeface="Corbel"/>
              </a:rPr>
              <a:t>aplicaţie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2-26T08:34:22Z</dcterms:modified>
  <cp:revision>1</cp:revision>
  <dc:subject/>
  <dc:title/>
</cp:coreProperties>
</file>