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CEB-40F8-4A7F-AD7E-EC032AF7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E7C-1AF1-4324-A67B-972EE1AF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370-A5AE-4A6F-AF52-922BF5C8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AF6-D533-4687-8F46-ADCB92D0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5FFA-24B8-4228-9A38-4C128811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69F-81D4-4BBB-83F5-CB69062B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B52E-F3F6-4585-9DC4-7014A4E8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2793-CBC0-4925-A3C9-E13B5797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1D95-6CC7-40C8-B17C-19AE4B3D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10A3-7749-4B4E-988C-7CAB896E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0D38-C4A7-46CB-A26F-23DC3F31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F8D-B7C6-4E19-9990-05A22497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FB6D-A5F3-407E-AF92-9987351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4255-86C6-4389-B3D6-2CB59AE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F922-AA88-40B5-B5E3-1858F4C5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ED0F-07F3-4AFB-8AB2-85994B4D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2E05-3BB5-42C9-AC57-B7C5AA79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382-C2FC-40FB-BD46-ADF2626F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43A-963E-455E-A7BD-52D714C1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152-241A-49CE-9BC5-61493380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635-AC5D-44BB-B593-F9CAA9B2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7D3-1F39-46BA-B2A5-162C4497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F54-1930-4F63-A9F5-377CACB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800-9D47-4256-A95B-E5D4AC5A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75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39920" indent="-316080">
              <a:spcBef>
                <a:spcPts val="751"/>
              </a:spcBef>
              <a:buClr>
                <a:srgbClr val="9f293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81200" indent="-339840">
              <a:spcBef>
                <a:spcPts val="751"/>
              </a:spcBef>
              <a:buClr>
                <a:srgbClr val="f07f0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EF1-99D9-4ED4-88FA-6C68AAC078E9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23232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69960" indent="-325440">
              <a:spcBef>
                <a:spcPts val="751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7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39920" indent="-316080">
              <a:spcBef>
                <a:spcPts val="751"/>
              </a:spcBef>
              <a:buClr>
                <a:srgbClr val="9f293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81200" indent="-339840">
              <a:spcBef>
                <a:spcPts val="751"/>
              </a:spcBef>
              <a:buClr>
                <a:srgbClr val="f07f0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6EE6-15E4-45EE-81A7-86F5178AC20F}" type="slidenum">
              <a:rPr b="0" lang="ro-RO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Monitoring and Management</a:t>
            </a:r>
            <a:br>
              <a:rPr sz="4000"/>
            </a:br>
            <a:r>
              <a:rPr b="0" lang="en-US" sz="4000" spc="-1" strike="noStrike">
                <a:solidFill>
                  <a:srgbClr val="323232"/>
                </a:solidFill>
                <a:latin typeface="Garamond"/>
              </a:rPr>
              <a:t>of Electrical Systems </a:t>
            </a:r>
            <a:br>
              <a:rPr sz="5000"/>
            </a:br>
            <a:r>
              <a:rPr b="0" lang="en-US" sz="5000" spc="-1" strike="noStrike">
                <a:solidFill>
                  <a:srgbClr val="323232"/>
                </a:solidFill>
                <a:latin typeface="Garamond"/>
              </a:rPr>
              <a:t> </a:t>
            </a:r>
            <a:r>
              <a:rPr b="0" lang="en-US" sz="3400" spc="-1" strike="noStrike">
                <a:solidFill>
                  <a:srgbClr val="323232"/>
                </a:solidFill>
                <a:latin typeface="Garamond"/>
              </a:rPr>
              <a:t>- matrix </a:t>
            </a:r>
            <a:r>
              <a:rPr b="0" lang="en-US" sz="3400" spc="-1" strike="noStrike" u="sng">
                <a:solidFill>
                  <a:srgbClr val="323232"/>
                </a:solidFill>
                <a:uFillTx/>
                <a:latin typeface="Garamond"/>
              </a:rPr>
              <a:t>Y</a:t>
            </a:r>
            <a:r>
              <a:rPr b="0" lang="en-US" sz="3400" spc="-1" strike="noStrike">
                <a:solidFill>
                  <a:srgbClr val="323232"/>
                </a:solidFill>
                <a:latin typeface="Garamond"/>
              </a:rPr>
              <a:t>n and general load flow models -</a:t>
            </a:r>
            <a:endParaRPr b="0" lang="en-US" sz="34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2.11.2014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086600" y="1219320"/>
            <a:ext cx="182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9f2936"/>
                </a:solidFill>
                <a:latin typeface="Arial Narrow"/>
              </a:rPr>
              <a:t>06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F electrical equation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Use admittance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the current on a branch is the product of branch admittance and bus voltage.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In matrix form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"/>
              <p:cNvSpPr txBox="1"/>
              <p:nvPr/>
            </p:nvSpPr>
            <p:spPr>
              <a:xfrm>
                <a:off x="1752480" y="3429000"/>
                <a:ext cx="179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1752480" y="4038480"/>
                <a:ext cx="4735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ia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F electrical equation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609480" y="1371600"/>
                <a:ext cx="179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609480" y="2057400"/>
                <a:ext cx="189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7"/>
              <p:cNvSpPr txBox="1"/>
              <p:nvPr/>
            </p:nvSpPr>
            <p:spPr>
              <a:xfrm>
                <a:off x="609480" y="2590920"/>
                <a:ext cx="171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d>
                      </m:e>
                      <m:sup/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3886200" y="1981080"/>
                <a:ext cx="3770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d>
                      </m:e>
                      <m:sup/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1"/>
              <p:cNvSpPr txBox="1"/>
              <p:nvPr/>
            </p:nvSpPr>
            <p:spPr>
              <a:xfrm>
                <a:off x="4495680" y="2971800"/>
                <a:ext cx="204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d>
                      </m:e>
                      <m:sup/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d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3"/>
              <p:cNvSpPr txBox="1"/>
              <p:nvPr/>
            </p:nvSpPr>
            <p:spPr>
              <a:xfrm>
                <a:off x="3962520" y="4343400"/>
                <a:ext cx="3471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Săgeată la dreapta 19"/>
          <p:cNvSpPr/>
          <p:nvPr/>
        </p:nvSpPr>
        <p:spPr>
          <a:xfrm>
            <a:off x="2895480" y="198108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ăgeată în jos 20"/>
          <p:cNvSpPr/>
          <p:nvPr/>
        </p:nvSpPr>
        <p:spPr>
          <a:xfrm>
            <a:off x="5257800" y="3581280"/>
            <a:ext cx="53352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reptunghi 23"/>
          <p:cNvSpPr/>
          <p:nvPr/>
        </p:nvSpPr>
        <p:spPr>
          <a:xfrm>
            <a:off x="5257800" y="51814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nknown or stat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24"/>
          <p:cNvSpPr/>
          <p:nvPr/>
        </p:nvSpPr>
        <p:spPr>
          <a:xfrm>
            <a:off x="6712920" y="5334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he 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25"/>
          <p:cNvSpPr/>
          <p:nvPr/>
        </p:nvSpPr>
        <p:spPr>
          <a:xfrm>
            <a:off x="3886200" y="51814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us admittanc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us admittance matrix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Franklin Gothic Medium"/>
              </a:rPr>
              <a:t>The bus admittance matrix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Franklin Gothic Medium"/>
              </a:rPr>
              <a:t>a square matrix, 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Franklin Gothic Medium"/>
              </a:rPr>
              <a:t>number of rows equal to the number of EPS independent buses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Franklin Gothic Medium"/>
              </a:rPr>
              <a:t>describes electrically and formally the EPS connectivity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"/>
              <p:cNvSpPr txBox="1"/>
              <p:nvPr/>
            </p:nvSpPr>
            <p:spPr>
              <a:xfrm>
                <a:off x="3657600" y="4343400"/>
                <a:ext cx="838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us admittance matrix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If the analyzed EPS does not have transformers, is a symmetrical matrix and its elements are computed as follow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766800" indent="-26316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its main diagonal elements, </a:t>
            </a: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Franklin Gothic Medium"/>
              </a:rPr>
              <a:t>Y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Franklin Gothic Medium"/>
              </a:rPr>
              <a:t>i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, have their value equal to the sum of branch admittances connected to bus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766800" indent="-26316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the elements outside the main diagonal, </a:t>
            </a: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Franklin Gothic Medium"/>
              </a:rPr>
              <a:t>Y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Franklin Gothic Medium"/>
              </a:rPr>
              <a:t>ij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,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 have the value equal to the admittance of the branch connecting buses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 and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, with minus sign. If no direct branch connection exists between buses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 and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, this value is equal to 0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us admittance matrix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If the EPS has ideal transformer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705240" indent="-24192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the main diagonal element , </a:t>
            </a: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Franklin Gothic Medium"/>
              </a:rPr>
              <a:t>Y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Franklin Gothic Medium"/>
              </a:rPr>
              <a:t>i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, are computed as the sum of elements connected directly, with impedance, to bus i, and the sum of admittances connected through a ideal transformer ratio times the square of the transformer ratio: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705240" indent="-241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705240" indent="-241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705240" indent="-24192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where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L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 denotes the set of branches connected in bus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 and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N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Franklin Gothic Medium"/>
              </a:rPr>
              <a:t>ki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is the ratio of the transformer from branch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 connected to bus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. If branch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k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 is connected through impedance with bus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, then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N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Franklin Gothic Medium"/>
              </a:rPr>
              <a:t>ki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=1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"/>
              <p:cNvSpPr txBox="1"/>
              <p:nvPr/>
            </p:nvSpPr>
            <p:spPr>
              <a:xfrm>
                <a:off x="3733920" y="3505320"/>
                <a:ext cx="2017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us admittance matrix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If the EPS has ideal transformer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64560" indent="-22788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the elements outside the main diagonal, </a:t>
            </a:r>
            <a:r>
              <a:rPr b="0" i="1" lang="en-GB" sz="2200" spc="-1" strike="noStrike" u="sng">
                <a:solidFill>
                  <a:srgbClr val="000000"/>
                </a:solidFill>
                <a:uFillTx/>
                <a:latin typeface="Franklin Gothic Medium"/>
              </a:rPr>
              <a:t>Y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Franklin Gothic Medium"/>
              </a:rPr>
              <a:t>ij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,  have values equal to the branch connected between buses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 and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j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, with minus sign, times the transformer ratio. If the transformer ratios in the equivalent circuit is at side </a:t>
            </a:r>
            <a:r>
              <a:rPr b="0" i="1" lang="en-GB" sz="22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, the complex transformer ratio is conjugated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64560" indent="-22788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64560" indent="-22788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64560" indent="-22788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64560" indent="-22788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Franklin Gothic Medium"/>
              </a:rPr>
              <a:t>If the transformer ratios are complex numbers, the bus admittance matrix  is no longer symmetrical.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64560" indent="-227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64560" indent="-227880">
              <a:spcBef>
                <a:spcPts val="55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6"/>
              <p:cNvSpPr txBox="1"/>
              <p:nvPr/>
            </p:nvSpPr>
            <p:spPr>
              <a:xfrm>
                <a:off x="2666880" y="3962520"/>
                <a:ext cx="5121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</m:sSubSup>
                    <m:r>
                      <m:t xml:space="preserve">⋅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us admittance matrix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Picture 50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124080" cy="32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5743800" cy="243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6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217332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General LF mathematical model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3712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bus in a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Medium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independent bus syste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991400" cy="30481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5486400" y="2057400"/>
                <a:ext cx="260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5181480" y="4343400"/>
                <a:ext cx="3613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J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5257800" y="5181480"/>
                <a:ext cx="7714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J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General LF mathematical model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371600"/>
            <a:ext cx="5181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rewrite separately the slack bus equation, and in the other equations the terms where the slack bus voltage appears are separate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990720" y="3048120"/>
                <a:ext cx="47862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e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=</m:t>
                    </m:r>
                    <m:f>
                      <m:num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e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5791320" y="2971800"/>
                <a:ext cx="2903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U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</m:sSubSup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[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1600200" y="5257800"/>
                <a:ext cx="5535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us power balance LF model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914400" y="1523880"/>
                <a:ext cx="33526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=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J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"/>
              <p:cNvSpPr txBox="1"/>
              <p:nvPr/>
            </p:nvSpPr>
            <p:spPr>
              <a:xfrm>
                <a:off x="914400" y="2362320"/>
                <a:ext cx="766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J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470840" y="141228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685800" y="3809880"/>
                <a:ext cx="738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762120" y="4876920"/>
                <a:ext cx="695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oad flow step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uild an one-line diagra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ttach electrical parameters to diagram ele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Medium"/>
              </a:rPr>
              <a:t>compute the bus admittance matrix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un the analysis algorithm and compute the main state variables (bus voltages, U, </a:t>
            </a:r>
            <a:r>
              <a:rPr b="0" lang="el-GR" sz="2800" spc="-1" strike="noStrike">
                <a:solidFill>
                  <a:srgbClr val="000000"/>
                </a:solidFill>
                <a:latin typeface="Franklin Gothic Medium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mpute the desired auxiliary variab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us power balance LF model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By using the algebraic representation for admittances and the trigonometric representation for voltages: 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130320" indent="-1303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130320" indent="-1303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130320" indent="-1303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130320" indent="-1303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130320" indent="-13032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and separating the real and imaginary parts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3"/>
              <p:cNvSpPr txBox="1"/>
              <p:nvPr/>
            </p:nvSpPr>
            <p:spPr>
              <a:xfrm>
                <a:off x="5029200" y="2438280"/>
                <a:ext cx="2054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2"/>
              <p:cNvSpPr txBox="1"/>
              <p:nvPr/>
            </p:nvSpPr>
            <p:spPr>
              <a:xfrm>
                <a:off x="1905120" y="2438280"/>
                <a:ext cx="2236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1"/>
              <p:cNvSpPr txBox="1"/>
              <p:nvPr/>
            </p:nvSpPr>
            <p:spPr>
              <a:xfrm>
                <a:off x="1905120" y="2971800"/>
                <a:ext cx="4035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6"/>
              <p:cNvSpPr txBox="1"/>
              <p:nvPr/>
            </p:nvSpPr>
            <p:spPr>
              <a:xfrm>
                <a:off x="1600200" y="5334120"/>
                <a:ext cx="592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5"/>
              <p:cNvSpPr txBox="1"/>
              <p:nvPr/>
            </p:nvSpPr>
            <p:spPr>
              <a:xfrm>
                <a:off x="1676520" y="4495680"/>
                <a:ext cx="5905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1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3567240" y="751680"/>
            <a:ext cx="200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4460040" y="153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1"/>
              <p:cNvSpPr txBox="1"/>
              <p:nvPr/>
            </p:nvSpPr>
            <p:spPr>
              <a:xfrm>
                <a:off x="1676520" y="6248520"/>
                <a:ext cx="21016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e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e bus power balance LF model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This complicated equations system cannot be resolved analytically, numerical methods being used instead.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The non-linear expression do not allow the use of direct methods, iterative methods being required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the non-linear equations system can be written:  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Franklin Gothic Medium"/>
              </a:rPr>
              <a:t>                                </a:t>
            </a:r>
            <a:r>
              <a:rPr b="0" i="1" lang="ro-RO" sz="2800" spc="-1" strike="noStrike">
                <a:solidFill>
                  <a:srgbClr val="000000"/>
                </a:solidFill>
                <a:latin typeface="Franklin Gothic Medium"/>
              </a:rPr>
              <a:t>f (x) = 0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Iterative algorithm for solving LF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an initial approximation of the sought solution is generated, </a:t>
            </a:r>
            <a:r>
              <a:rPr b="1" lang="en-GB" sz="2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Franklin Gothic Medium"/>
              </a:rPr>
              <a:t>(0)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, and the iteration counter is set to 1: </a:t>
            </a:r>
            <a:r>
              <a:rPr b="0" i="1" lang="en-GB" sz="2000" spc="-1" strike="noStrike">
                <a:solidFill>
                  <a:srgbClr val="000000"/>
                </a:solidFill>
                <a:latin typeface="Franklin Gothic Medium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at any step t, with the current approximation </a:t>
            </a:r>
            <a:r>
              <a:rPr b="1" lang="en-GB" sz="2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Franklin Gothic Medium"/>
              </a:rPr>
              <a:t>(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Franklin Gothic Medium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Franklin Gothic Medium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, a new </a:t>
            </a:r>
            <a:r>
              <a:rPr b="1" lang="en-GB" sz="2000" spc="-1" strike="noStrike">
                <a:solidFill>
                  <a:srgbClr val="000000"/>
                </a:solidFill>
                <a:latin typeface="Franklin Gothic Medium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Franklin Gothic Medium"/>
              </a:rPr>
              <a:t>(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Franklin Gothic Medium"/>
              </a:rPr>
              <a:t>t</a:t>
            </a:r>
            <a:r>
              <a:rPr b="0" lang="en-GB" sz="2000" spc="-1" strike="noStrike" baseline="30000">
                <a:solidFill>
                  <a:srgbClr val="000000"/>
                </a:solidFill>
                <a:latin typeface="Franklin Gothic Medium"/>
              </a:rPr>
              <a:t>+1)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 approximation is computed, which should be better than the previous approxim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the iterative process continues until a sopping criterion is me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The exact solution it is theoretically found only if an infinite number of iterations is performed. Thus, with a finite number of steps, the found solution will be oanly an approximation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The best known iterative load flow algorithms ar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4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Medium"/>
              </a:rPr>
              <a:t>the Gauss-Seidel method 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22400" indent="-351000">
              <a:spcBef>
                <a:spcPts val="45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anklin Gothic Medium"/>
              </a:rPr>
              <a:t>the Newton-Raphson method.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Next…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oad flow algorithms: Gauss-Seide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6400800" y="54864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oad flow computation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Medium"/>
              </a:rPr>
              <a:t>Load flow algorithms use the electrical parameters to build equivalent mathematical representations for all EPS elements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31800" y="3336840"/>
          <a:ext cx="6080400" cy="182520"/>
        </p:xfrm>
        <a:graphic>
          <a:graphicData uri="http://schemas.openxmlformats.org/drawingml/2006/table">
            <a:tbl>
              <a:tblPr/>
              <a:tblGrid>
                <a:gridCol w="3040200"/>
                <a:gridCol w="3040200"/>
              </a:tblGrid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96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353040" cy="282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181480" y="2819520"/>
            <a:ext cx="32148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F equivalent circuit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1337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loads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re </a:t>
            </a: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represented as currents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the transformer ratios are complex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</a:t>
            </a: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he common ground node 0 is the reference bu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buses 1-4 are independent bus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4624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F equivalent circuit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880"/>
            <a:ext cx="40388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The bus shunt admittances are computed as sums of  shunt admittances of EPS elements connected to the bus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2776680" cy="2566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"/>
              <p:cNvSpPr txBox="1"/>
              <p:nvPr/>
            </p:nvSpPr>
            <p:spPr>
              <a:xfrm>
                <a:off x="1066680" y="3200400"/>
                <a:ext cx="236232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sub>
                        </m:sSub>
                      </m:e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sub>
                        </m:sSub>
                      </m:e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40</m:t>
                            </m:r>
                          </m:sub>
                        </m:sSub>
                      </m:e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F equivalent circuit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on the series branches, currents flow from the smaller number order bus to the bigger number order bus, and voltages directions follow the direction of the curre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on the shunt branches, currents flow to ground and voltages are directed towards the neutral (ground) bus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The bus current and voltage vectors are written as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"/>
              <p:cNvSpPr txBox="1"/>
              <p:nvPr/>
            </p:nvSpPr>
            <p:spPr>
              <a:xfrm>
                <a:off x="685800" y="3886200"/>
                <a:ext cx="44290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388200" y="3886200"/>
            <a:ext cx="22255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F equivalent circuit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57240" y="2133720"/>
            <a:ext cx="213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a graph is attache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229680" indent="-2296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229680" indent="-2296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Franklin Gothic Medium"/>
              </a:rPr>
              <a:t>branches are oriented according to the currents flo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229680" indent="-2296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0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14352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3" descr=""/>
          <p:cNvPicPr/>
          <p:nvPr/>
        </p:nvPicPr>
        <p:blipFill>
          <a:blip r:embed="rId2"/>
          <a:srcRect l="0" t="4236" r="0" b="4998"/>
          <a:stretch/>
        </p:blipFill>
        <p:spPr>
          <a:xfrm>
            <a:off x="5410080" y="2209680"/>
            <a:ext cx="293400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LF topology equations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3" descr=""/>
          <p:cNvPicPr/>
          <p:nvPr/>
        </p:nvPicPr>
        <p:blipFill>
          <a:blip r:embed="rId1"/>
          <a:srcRect l="0" t="4236" r="0" b="4998"/>
          <a:stretch/>
        </p:blipFill>
        <p:spPr>
          <a:xfrm>
            <a:off x="6165720" y="1143000"/>
            <a:ext cx="2330640" cy="205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533520" y="1447920"/>
                <a:ext cx="4937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I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4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8" name="Picture 50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2179440" cy="228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09120" y="2819520"/>
            <a:ext cx="4876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wo topology equations can be wri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1447920" y="365760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d>
                      </m:e>
                      <m:sup/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I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J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1523880" y="4267080"/>
                <a:ext cx="1890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U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Matrix [</a:t>
            </a:r>
            <a:r>
              <a:rPr b="0" lang="en-US" sz="3600" spc="-1" strike="noStrike" u="sng">
                <a:solidFill>
                  <a:srgbClr val="323232"/>
                </a:solidFill>
                <a:uFillTx/>
                <a:latin typeface="Garamond"/>
              </a:rPr>
              <a:t>A</a:t>
            </a:r>
            <a:r>
              <a:rPr b="0" lang="en-US" sz="3600" spc="-1" strike="noStrike">
                <a:solidFill>
                  <a:srgbClr val="323232"/>
                </a:solidFill>
                <a:latin typeface="Garamond"/>
              </a:rPr>
              <a:t>]</a:t>
            </a:r>
            <a:endParaRPr b="0" lang="en-US" sz="3600" spc="-1" strike="noStrike">
              <a:solidFill>
                <a:srgbClr val="323232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Matrix 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[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] has a number of rows equal to the number of independent buses in the EPS, and a number of columns equal to the number of EPS branches. Its elements, denoted by </a:t>
            </a:r>
            <a:r>
              <a:rPr b="0" i="1" lang="en-GB" sz="2000" spc="-1" strike="noStrike">
                <a:solidFill>
                  <a:srgbClr val="000000"/>
                </a:solidFill>
                <a:latin typeface="Franklin Gothic Medium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Franklin Gothic Medium"/>
              </a:rPr>
              <a:t>ij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 can 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49800" indent="-3153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0, if branch j does not connect in bus 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49800" indent="-3153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+1 or -1 if branch j is directly connected in bus j, in negative or positive direc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49800" indent="-315360">
              <a:spcBef>
                <a:spcPts val="499"/>
              </a:spcBef>
              <a:buClr>
                <a:srgbClr val="9f293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Franklin Gothic Medium"/>
              </a:rPr>
              <a:t>+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Franklin Gothic Medium"/>
              </a:rPr>
              <a:t>ki</a:t>
            </a:r>
            <a:r>
              <a:rPr b="0" i="1" lang="en-GB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sau </a:t>
            </a:r>
            <a:r>
              <a:rPr b="0" i="1" lang="en-GB" sz="2000" spc="-1" strike="noStrike">
                <a:solidFill>
                  <a:srgbClr val="000000"/>
                </a:solidFill>
                <a:latin typeface="Franklin Gothic Medium"/>
              </a:rPr>
              <a:t>–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N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Franklin Gothic Medium"/>
              </a:rPr>
              <a:t>ki 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if branch j is connected with bus i through the transformer ratio side of a transformer, in positive or negative direction, and directly (via impedance) connected to bus </a:t>
            </a:r>
            <a:r>
              <a:rPr b="0" i="1" lang="en-GB" sz="2000" spc="-1" strike="noStrike">
                <a:solidFill>
                  <a:srgbClr val="000000"/>
                </a:solidFill>
                <a:latin typeface="Franklin Gothic Medium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2640" indent="-332640">
              <a:spcBef>
                <a:spcPts val="499"/>
              </a:spcBef>
              <a:buClr>
                <a:srgbClr val="f07f0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Picture 53" descr=""/>
          <p:cNvPicPr/>
          <p:nvPr/>
        </p:nvPicPr>
        <p:blipFill>
          <a:blip r:embed="rId1"/>
          <a:srcRect l="0" t="4236" r="0" b="4998"/>
          <a:stretch/>
        </p:blipFill>
        <p:spPr>
          <a:xfrm>
            <a:off x="685800" y="4572000"/>
            <a:ext cx="2200320" cy="194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499104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6:54:16Z</dcterms:created>
  <dc:creator>Hermes</dc:creator>
  <dc:description/>
  <dc:language>en-US</dc:language>
  <cp:lastModifiedBy>miniONE</cp:lastModifiedBy>
  <dcterms:modified xsi:type="dcterms:W3CDTF">2014-11-14T11:16:36Z</dcterms:modified>
  <cp:revision>152</cp:revision>
  <dc:subject/>
  <dc:title>Sisteme electroenergetice  - laborator recapitulativ -</dc:title>
</cp:coreProperties>
</file>