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F2D-3221-478D-822B-0D013C9C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3BCF-A6CD-49C1-8598-754DCBC1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5D8-0EB6-4217-8EAD-B5D35D4D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798F-C8EE-41B8-A698-59401F49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63C0-1097-4C27-9484-4167254C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0829-2429-47FE-8DAE-2AC5A09D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9F8C-91ED-42FD-AAF3-B69BF90F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43DF-C93B-4876-95FB-0FBD750A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D6C8-CC31-4154-8E41-C7538137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6D39-F9A5-4D7C-9AB9-F54660AB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105F-8396-4140-9DB5-4406023D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DC10-8D03-4DF8-89A0-A66DC0DA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C1B5-117B-4AE4-B09C-A8B9F713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BE44-D2FB-4410-9E70-D0F74296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9730-3D0D-43E5-A2E4-3521FE56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2978-1C09-4B7C-B572-E7217609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125E-2ACD-4603-88FE-F7C79608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E7CA-18C4-4AD9-AA29-D1615F61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CFAB-FB6B-4840-BB57-46EF8B69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55FA-DB0A-4BEE-BDFA-9FCA6827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FDC-CC5C-4878-8543-2F9C7C99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162-A856-4C55-8738-32A6E2A4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02A-71DC-4DAD-8BAE-B4E1B289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DB2A-51A6-417A-888C-57223C72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69960" indent="-325440">
              <a:spcBef>
                <a:spcPts val="751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22400" indent="-35100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339920" indent="-316080">
              <a:spcBef>
                <a:spcPts val="751"/>
              </a:spcBef>
              <a:buClr>
                <a:srgbClr val="9f293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681200" indent="-339840">
              <a:spcBef>
                <a:spcPts val="751"/>
              </a:spcBef>
              <a:buClr>
                <a:srgbClr val="f07f0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22E7-7595-435C-B652-4767B2A91C68}" type="slidenum">
              <a:rPr b="0" lang="ro-RO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69960" indent="-325440">
              <a:spcBef>
                <a:spcPts val="751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22400" indent="-35100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339920" indent="-316080">
              <a:spcBef>
                <a:spcPts val="751"/>
              </a:spcBef>
              <a:buClr>
                <a:srgbClr val="9f293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681200" indent="-339840">
              <a:spcBef>
                <a:spcPts val="751"/>
              </a:spcBef>
              <a:buClr>
                <a:srgbClr val="f07f0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5289-8124-46B8-96EC-4905E267BD45}" type="slidenum">
              <a:rPr b="0" lang="ro-RO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1447920"/>
            <a:ext cx="8003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Garamond"/>
              </a:rPr>
              <a:t>Monitoring and Management</a:t>
            </a:r>
            <a:br>
              <a:rPr sz="4000"/>
            </a:br>
            <a:r>
              <a:rPr b="0" lang="en-US" sz="4000" spc="-1" strike="noStrike">
                <a:solidFill>
                  <a:srgbClr val="323232"/>
                </a:solidFill>
                <a:latin typeface="Garamond"/>
              </a:rPr>
              <a:t>of Electrical Systems </a:t>
            </a:r>
            <a:br>
              <a:rPr sz="5000"/>
            </a:br>
            <a:r>
              <a:rPr b="0" lang="ro-RO" sz="5000" spc="-1" strike="noStrike">
                <a:solidFill>
                  <a:srgbClr val="323232"/>
                </a:solidFill>
                <a:latin typeface="Garamond"/>
              </a:rPr>
              <a:t>- </a:t>
            </a: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per unit values </a:t>
            </a:r>
            <a:r>
              <a:rPr b="0" lang="ro-RO" sz="3600" spc="-1" strike="noStrike">
                <a:solidFill>
                  <a:srgbClr val="323232"/>
                </a:solidFill>
                <a:latin typeface="Garamond"/>
              </a:rPr>
              <a:t>- 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323232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0</a:t>
            </a:r>
            <a:r>
              <a:rPr b="0" lang="ro-RO" sz="2800" spc="-1" strike="noStrike">
                <a:solidFill>
                  <a:srgbClr val="000000"/>
                </a:solidFill>
                <a:latin typeface="Franklin Gothic Mediu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.12.2014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086600" y="1219320"/>
            <a:ext cx="18288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9f2936"/>
                </a:solidFill>
                <a:latin typeface="Arial Narrow"/>
              </a:rPr>
              <a:t>08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per unit (p.u.) values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marL="72000" indent="-7200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In electrical networks with two or more voltage levels, values as branch impedances or voltage values cannot be compared on a common reference.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72000" indent="-7200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72000" indent="-7200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converting absolute values into per-unit values is, basically, a normalization process, using a base value of choice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72000" indent="-7200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72000" indent="-7200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72000" indent="-7200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72000" indent="-7200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example</a:t>
            </a:r>
            <a:r>
              <a:rPr b="0" lang="ro-RO" sz="2400" spc="-1" strike="noStrike">
                <a:solidFill>
                  <a:srgbClr val="000000"/>
                </a:solidFill>
                <a:latin typeface="Franklin Gothic Medium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percent values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72000" indent="-7200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are dimensionless – the * symbol is often used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Franklin Gothic Medium"/>
              </a:rPr>
              <a:t>U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Medium"/>
              </a:rPr>
              <a:t>*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Franklin Gothic Medium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Medium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72000" indent="-7200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2666880" y="4343400"/>
                <a:ext cx="3354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 unit valu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solute valu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se valu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Base quantities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In power systems there are four base quantities required to define a per-unit system. These are: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15520" indent="-250560">
              <a:spcBef>
                <a:spcPts val="499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power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Franklin Gothic Medium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15520" indent="-250560">
              <a:spcBef>
                <a:spcPts val="499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voltage magnitude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Franklin Gothic Medium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15520" indent="-250560">
              <a:spcBef>
                <a:spcPts val="499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urrent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Franklin Gothic Medium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15520" indent="-250560">
              <a:spcBef>
                <a:spcPts val="499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impedance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Franklin Gothic Medium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263880" indent="-26388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the known basic interdependences are defined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263880" indent="-26388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"/>
              <p:cNvSpPr txBox="1"/>
              <p:nvPr/>
            </p:nvSpPr>
            <p:spPr>
              <a:xfrm>
                <a:off x="3962520" y="4724280"/>
                <a:ext cx="160812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  <m:r>
                          <m:t xml:space="preserve">⋅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S</m:t>
                            </m: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  <m:r>
                          <m:t xml:space="preserve">⋅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I</m:t>
                                </m:r>
                              </m:e>
                            </m:ba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Base quantities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Given two of them, all others can be defined using these two. Usually, the base voltage </a:t>
            </a:r>
            <a:r>
              <a:rPr b="0" i="1" lang="en-US" sz="3000" spc="-1" strike="noStrike">
                <a:solidFill>
                  <a:srgbClr val="000000"/>
                </a:solidFill>
                <a:latin typeface="Franklin Gothic Medium"/>
              </a:rPr>
              <a:t>U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Franklin Gothic Medium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  and power </a:t>
            </a:r>
            <a:r>
              <a:rPr b="0" i="1" lang="en-US" sz="30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Franklin Gothic Medium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 are chosen.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The voltage angle is dimensionless.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Base current and impedance  follow as: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"/>
              <p:cNvSpPr txBox="1"/>
              <p:nvPr/>
            </p:nvSpPr>
            <p:spPr>
              <a:xfrm>
                <a:off x="1752480" y="4800600"/>
                <a:ext cx="5349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Base change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There are cases when it’s necessary to change the base value, for instance when a system contains transformers and, thus, more than one voltage areas, or when the transformers’ basic parameters are given in producers’ catalogues using different base values (absolute values, percent etc).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For the same absolute value of the impedance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The same applies for admittances.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323232"/>
                </a:solidFill>
                <a:latin typeface="Garamond"/>
              </a:rPr>
              <a:t>u.r. pentru transformatoare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2362320" y="2514600"/>
                <a:ext cx="3828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=</m:t>
                    </m:r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p>
                    </m:sSubSup>
                    <m:r>
                      <m:t xml:space="preserve">⋅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p>
                    </m:sSubSup>
                    <m:r>
                      <m:t xml:space="preserve">⋅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1784520" y="4114800"/>
                <a:ext cx="60861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p>
                    </m:sSubSup>
                    <m:r>
                      <m:t xml:space="preserve">⋅</m:t>
                    </m:r>
                    <m:f>
                      <m:num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p>
                        </m:sSubSup>
                      </m:den>
                    </m:f>
                    <m:r>
                      <m:t xml:space="preserve">⇔</m:t>
                    </m:r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</m:e>
                      <m:sub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p>
                    </m:sSubSup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Rectangle 10"/>
          <p:cNvSpPr/>
          <p:nvPr/>
        </p:nvSpPr>
        <p:spPr>
          <a:xfrm>
            <a:off x="0" y="36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e basic p.u. conversion algorithm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Build the one-line diagram of the system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01680" indent="-3016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Choose a base value for the power (a multiple of 10 MVA or kVA is recommended).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01680" indent="-3016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Place the rated ratios of transformers on the one-line diagram.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01680" indent="-3016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Identify the voltage areas of the system, based on the transformer winding voltages.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01680" indent="-3016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Choose the base voltage in the first area (the rated voltage in the area is the recommended value).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01680" indent="-3016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e basic p.u. conversion algorithm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Compute the base voltages in the other areas, using the already known base voltages and transformer ratios.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01680" indent="-3016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Compute the base impedance in each area.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01680" indent="-3016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Compute the per-unit values of impedances, powers and voltages in each area.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01680" indent="-3016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Franklin Gothic Medium"/>
              </a:rPr>
              <a:t>Build the one-line diagram in p.u. and eliminate the transformers.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01680" indent="-3016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fbfbf"/>
                </a:solidFill>
                <a:latin typeface="Franklin Gothic Medium"/>
              </a:rPr>
              <a:t>Run the analysis and reconvert the results in absolute values, if necessary.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01680" indent="-3016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Next time…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The Gauss-Seidel  load flow method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Titlu 1"/>
          <p:cNvSpPr/>
          <p:nvPr/>
        </p:nvSpPr>
        <p:spPr>
          <a:xfrm>
            <a:off x="457200" y="54864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6:54:16Z</dcterms:created>
  <dc:creator>Hermes</dc:creator>
  <dc:description/>
  <dc:language>en-US</dc:language>
  <cp:lastModifiedBy>Flyer</cp:lastModifiedBy>
  <dcterms:modified xsi:type="dcterms:W3CDTF">2014-12-02T16:32:27Z</dcterms:modified>
  <cp:revision>55</cp:revision>
  <dc:subject/>
  <dc:title>Sisteme electroenergetice  - laborator recapitulativ -</dc:title>
</cp:coreProperties>
</file>