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46FC-D840-441F-BA5A-5196888C9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8D61-38E6-4930-804F-D9A65604A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34EE-FE42-4D85-9046-1DF4A97C4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BBC8-B605-4CFB-B9DF-8F026F994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7E011-DA26-4445-A221-E87AC9079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837AF-316C-4237-A086-D3FBF383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98966-B09A-484B-A3FD-7771662A6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BE0A6-4C6A-4E6D-A2E9-BD2C59B86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45742-BCC0-42D2-A87A-3651090D6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CE984-4396-415C-9AF9-90E5F8539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B6A72-1DC8-4D5A-B1D8-0B3E86C8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5188-C95C-46C7-B227-6CF4C2291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15255-CC6B-46DD-98A5-0B7F7A2E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C89CF-1083-4054-82DB-ACC5A1B9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06081-18E8-4BEF-9C9A-5EECF9212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8220C-ED6C-44EB-B7A1-406F25520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2988E-D3AA-4FC8-8591-AD7FB6553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6B5C-1CB8-4365-91C1-2CCFD01A8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C133-3543-480F-9CD3-C3A3CE5B9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5219-9838-47D7-ADC4-B994A27DC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C619-3AC4-4136-A2BC-DF3CDF566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328C-C3C7-4423-A838-135E7648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CDB3-25C4-4D04-B80B-FE69F556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28BB-2449-4986-A650-CF514A59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23232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669960" indent="-325440">
              <a:spcBef>
                <a:spcPts val="751"/>
              </a:spcBef>
              <a:buClr>
                <a:srgbClr val="9f293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1022400" indent="-351000">
              <a:spcBef>
                <a:spcPts val="75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339920" indent="-316080">
              <a:spcBef>
                <a:spcPts val="751"/>
              </a:spcBef>
              <a:buClr>
                <a:srgbClr val="9f293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681200" indent="-339840">
              <a:spcBef>
                <a:spcPts val="751"/>
              </a:spcBef>
              <a:buClr>
                <a:srgbClr val="f07f0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1568E-1D9B-478A-B063-8A3CBAB752FC}" type="slidenum">
              <a:rPr b="0" lang="ro-RO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23232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669960" indent="-325440">
              <a:spcBef>
                <a:spcPts val="751"/>
              </a:spcBef>
              <a:buClr>
                <a:srgbClr val="9f293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1022400" indent="-351000">
              <a:spcBef>
                <a:spcPts val="75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339920" indent="-316080">
              <a:spcBef>
                <a:spcPts val="751"/>
              </a:spcBef>
              <a:buClr>
                <a:srgbClr val="9f293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681200" indent="-339840">
              <a:spcBef>
                <a:spcPts val="751"/>
              </a:spcBef>
              <a:buClr>
                <a:srgbClr val="f07f0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4F575-4BED-4E94-B9A8-36489EB246CB}" type="slidenum">
              <a:rPr b="0" lang="ro-RO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12.12.2014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7086600" y="1219320"/>
            <a:ext cx="182880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900" spc="-1" strike="noStrike">
                <a:solidFill>
                  <a:srgbClr val="9f2936"/>
                </a:solidFill>
                <a:latin typeface="Arial Narrow"/>
              </a:rPr>
              <a:t>09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762120" y="1371600"/>
            <a:ext cx="7623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Garamond"/>
              </a:rPr>
              <a:t>Monitoring and Management</a:t>
            </a:r>
            <a:br>
              <a:rPr sz="4000"/>
            </a:br>
            <a:r>
              <a:rPr b="0" lang="en-US" sz="4000" spc="-1" strike="noStrike">
                <a:solidFill>
                  <a:srgbClr val="323232"/>
                </a:solidFill>
                <a:latin typeface="Garamond"/>
              </a:rPr>
              <a:t>of Electrical Systems </a:t>
            </a:r>
            <a:br>
              <a:rPr sz="5000"/>
            </a:br>
            <a:r>
              <a:rPr b="0" lang="en-US" sz="5000" spc="-1" strike="noStrike">
                <a:solidFill>
                  <a:srgbClr val="323232"/>
                </a:solidFill>
                <a:latin typeface="Garamond"/>
              </a:rPr>
              <a:t> </a:t>
            </a:r>
            <a:r>
              <a:rPr b="0" lang="en-US" sz="3400" spc="-1" strike="noStrike">
                <a:solidFill>
                  <a:srgbClr val="323232"/>
                </a:solidFill>
                <a:latin typeface="Garamond"/>
              </a:rPr>
              <a:t>- the Gauss-Seidel LF method -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Garamond"/>
              </a:rPr>
              <a:t>Example: a 4 equation, 4 variable system</a:t>
            </a:r>
            <a:endParaRPr b="0" lang="en-US" sz="36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1"/>
              <p:cNvSpPr txBox="1"/>
              <p:nvPr/>
            </p:nvSpPr>
            <p:spPr>
              <a:xfrm>
                <a:off x="2025720" y="1523880"/>
                <a:ext cx="4726080" cy="152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3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3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3"/>
              <p:cNvSpPr txBox="1"/>
              <p:nvPr/>
            </p:nvSpPr>
            <p:spPr>
              <a:xfrm>
                <a:off x="1981080" y="3733920"/>
                <a:ext cx="392112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4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Garamond"/>
              </a:rPr>
              <a:t>Example: a 4 equation, 4 variable system</a:t>
            </a:r>
            <a:endParaRPr b="0" lang="en-US" sz="36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599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75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an initial approximation for the solution must be given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marL="243360" indent="-243360">
              <a:spcBef>
                <a:spcPts val="75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marL="243360" indent="-243360">
              <a:spcBef>
                <a:spcPts val="75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all elements from matrix </a:t>
            </a:r>
            <a:r>
              <a:rPr b="0" i="1" lang="en-US" sz="3000" spc="-1" strike="noStrike">
                <a:solidFill>
                  <a:srgbClr val="000000"/>
                </a:solidFill>
                <a:latin typeface="Franklin Gothic Medium"/>
              </a:rPr>
              <a:t>[A] </a:t>
            </a: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and vector </a:t>
            </a:r>
            <a:r>
              <a:rPr b="0" i="1" lang="en-US" sz="3000" spc="-1" strike="noStrike">
                <a:solidFill>
                  <a:srgbClr val="000000"/>
                </a:solidFill>
                <a:latin typeface="Franklin Gothic Medium"/>
              </a:rPr>
              <a:t>[b] are</a:t>
            </a: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 known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marL="243360" indent="-243360">
              <a:spcBef>
                <a:spcPts val="75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marL="243360" indent="-243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marL="243360" indent="-243360">
              <a:spcBef>
                <a:spcPts val="75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marL="243360" indent="-243360">
              <a:spcBef>
                <a:spcPts val="75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4"/>
              <p:cNvSpPr txBox="1"/>
              <p:nvPr/>
            </p:nvSpPr>
            <p:spPr>
              <a:xfrm>
                <a:off x="2438280" y="2666880"/>
                <a:ext cx="4176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[</m:t>
                    </m:r>
                    <m:m>
                      <m:mr>
                        <m:e>
                          <m:sSubSup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(</m:t>
                              </m:r>
                              <m:r>
                                <m:t xml:space="preserve">0</m:t>
                              </m:r>
                              <m:r>
                                <m:t xml:space="preserve">)</m:t>
                              </m:r>
                            </m:sup>
                          </m:sSubSup>
                        </m:e>
                        <m:e>
                          <m:sSubSup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  <m:sup>
                              <m:r>
                                <m:t xml:space="preserve">(</m:t>
                              </m:r>
                              <m:r>
                                <m:t xml:space="preserve">0</m:t>
                              </m:r>
                              <m:r>
                                <m:t xml:space="preserve">)</m:t>
                              </m:r>
                            </m:sup>
                          </m:sSubSup>
                        </m:e>
                        <m:e>
                          <m:sSubSup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  <m:sup>
                              <m:r>
                                <m:t xml:space="preserve">(</m:t>
                              </m:r>
                              <m:r>
                                <m:t xml:space="preserve">0</m:t>
                              </m:r>
                              <m:r>
                                <m:t xml:space="preserve">)</m:t>
                              </m:r>
                            </m:sup>
                          </m:sSubSup>
                        </m:e>
                        <m:e>
                          <m:sSubSup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  <m:sup>
                              <m:r>
                                <m:t xml:space="preserve">(</m:t>
                              </m:r>
                              <m:r>
                                <m:t xml:space="preserve">0</m:t>
                              </m:r>
                              <m:r>
                                <m:t xml:space="preserve">)</m:t>
                              </m:r>
                            </m:sup>
                          </m:sSubSup>
                        </m:e>
                      </m:mr>
                    </m:m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Garamond"/>
              </a:rPr>
              <a:t>Example: a 4 equation, 4 variable system</a:t>
            </a:r>
            <a:endParaRPr b="0" lang="en-US" sz="36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33520" y="10663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with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1828800" y="3048120"/>
            <a:ext cx="5315040" cy="3524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3" name="Object 9"/>
              <p:cNvSpPr txBox="1"/>
              <p:nvPr/>
            </p:nvSpPr>
            <p:spPr>
              <a:xfrm>
                <a:off x="1905120" y="1828800"/>
                <a:ext cx="42940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i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</m:e>
                    </m:nary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i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57200" y="4568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The modified Gauss-Seidel method uses and acceleration procedure which computes first the </a:t>
            </a:r>
            <a:r>
              <a:rPr b="0" i="1" lang="en-US" sz="2400" spc="-1" strike="noStrike">
                <a:solidFill>
                  <a:srgbClr val="000000"/>
                </a:solidFill>
                <a:latin typeface="Franklin Gothic Medium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Franklin Gothic Medium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Franklin Gothic Medium"/>
              </a:rPr>
              <a:t>t+1</a:t>
            </a:r>
            <a:r>
              <a:rPr b="0" i="1" lang="en-US" sz="24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approximation with the standard formula, to which further applies a correction written as: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60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1"/>
              <p:cNvSpPr txBox="1"/>
              <p:nvPr/>
            </p:nvSpPr>
            <p:spPr>
              <a:xfrm>
                <a:off x="2438280" y="2971800"/>
                <a:ext cx="33940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←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)</m:t>
                        </m:r>
                      </m:e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←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7" name="Rectangle 5"/>
          <p:cNvSpPr/>
          <p:nvPr/>
        </p:nvSpPr>
        <p:spPr>
          <a:xfrm>
            <a:off x="1182960" y="5257800"/>
            <a:ext cx="4990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called acceleration fact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Garamond"/>
              </a:rPr>
              <a:t>Gauss-Seidel for LF</a:t>
            </a:r>
            <a:endParaRPr b="0" lang="en-US" sz="36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Starting from the general equation</a:t>
            </a:r>
            <a:r>
              <a:rPr b="0" lang="ro-RO" sz="3000" spc="-1" strike="noStrike">
                <a:solidFill>
                  <a:srgbClr val="000000"/>
                </a:solidFill>
                <a:latin typeface="Franklin Gothic Medium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75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75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75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Any bus current can be written as</a:t>
            </a:r>
            <a:r>
              <a:rPr b="0" lang="ro-RO" sz="3000" spc="-1" strike="noStrike">
                <a:solidFill>
                  <a:srgbClr val="000000"/>
                </a:solidFill>
                <a:latin typeface="Franklin Gothic Medium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1"/>
              <p:cNvSpPr txBox="1"/>
              <p:nvPr/>
            </p:nvSpPr>
            <p:spPr>
              <a:xfrm>
                <a:off x="3124080" y="2438280"/>
                <a:ext cx="25146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 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⋅</m:t>
                    </m:r>
                    <m:r>
                      <m:t xml:space="preserve">[</m:t>
                    </m:r>
                    <m:r>
                      <m:t xml:space="preserve"> 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U</m:t>
                            </m:r>
                          </m:e>
                        </m:ba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 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J</m:t>
                            </m:r>
                          </m:e>
                        </m:ba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3"/>
              <p:cNvSpPr txBox="1"/>
              <p:nvPr/>
            </p:nvSpPr>
            <p:spPr>
              <a:xfrm>
                <a:off x="838080" y="4038480"/>
                <a:ext cx="450396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≠</m:t>
                    </m:r>
                    <m:r>
                      <m:t xml:space="preserve">i</m:t>
                    </m:r>
                    <m:limLow>
                      <m:e/>
                      <m:lim>
                        <m:r>
                          <m:t xml:space="preserve">n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p:sp>
        <p:nvSpPr>
          <p:cNvPr id="164" name="Rectangle 7"/>
          <p:cNvSpPr/>
          <p:nvPr/>
        </p:nvSpPr>
        <p:spPr>
          <a:xfrm>
            <a:off x="5849640" y="4419720"/>
            <a:ext cx="21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= 1,…,</a:t>
            </a: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N;  i</a:t>
            </a:r>
            <a:r>
              <a:rPr b="0" i="1" lang="ro-RO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lack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Garamond"/>
              </a:rPr>
              <a:t>Gauss-Seidel for LF</a:t>
            </a:r>
            <a:endParaRPr b="0" lang="en-US" sz="36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Since the load is usually known as active power P and rective power Q, the bus current is rewritten</a:t>
            </a:r>
            <a:r>
              <a:rPr b="0" lang="ro-RO" sz="2400" spc="-1" strike="noStrike">
                <a:solidFill>
                  <a:srgbClr val="000000"/>
                </a:solidFill>
                <a:latin typeface="Franklin Gothic Medium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60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1"/>
              <p:cNvSpPr txBox="1"/>
              <p:nvPr/>
            </p:nvSpPr>
            <p:spPr>
              <a:xfrm>
                <a:off x="3048120" y="3352680"/>
                <a:ext cx="267804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J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S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  <m:sup/>
                        </m:sSubSup>
                      </m:num>
                      <m:den>
                        <m:sSub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U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  <m:sup/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U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  <m:sup/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Garamond"/>
              </a:rPr>
              <a:t>Gauss-Seidel for LF</a:t>
            </a:r>
            <a:endParaRPr b="0" lang="en-US" sz="36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thus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75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75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75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75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and the iterative formula: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75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75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1"/>
              <p:cNvSpPr txBox="1"/>
              <p:nvPr/>
            </p:nvSpPr>
            <p:spPr>
              <a:xfrm>
                <a:off x="2070000" y="2219400"/>
                <a:ext cx="363060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≠</m:t>
                    </m:r>
                    <m:r>
                      <m:t xml:space="preserve">i</m:t>
                    </m:r>
                    <m:limLow>
                      <m:e/>
                      <m:lim>
                        <m:r>
                          <m:t xml:space="preserve">N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p:sp>
        <p:nvSpPr>
          <p:cNvPr id="173" name="Rectangle 5"/>
          <p:cNvSpPr/>
          <p:nvPr/>
        </p:nvSpPr>
        <p:spPr>
          <a:xfrm>
            <a:off x="5925960" y="2514600"/>
            <a:ext cx="21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= 1,…,</a:t>
            </a: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N;  i</a:t>
            </a:r>
            <a:r>
              <a:rPr b="0" i="1" lang="ro-RO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lack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6459480" y="6324480"/>
            <a:ext cx="21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= 1,…,</a:t>
            </a: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N;  i</a:t>
            </a:r>
            <a:r>
              <a:rPr b="0" i="1" lang="ro-RO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lack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3"/>
              <p:cNvSpPr txBox="1"/>
              <p:nvPr/>
            </p:nvSpPr>
            <p:spPr>
              <a:xfrm>
                <a:off x="1676520" y="4800600"/>
                <a:ext cx="56322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U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Y</m:t>
                                </m:r>
                              </m:e>
                            </m:ba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(</m:t>
                            </m:r>
                            <m:sSubSup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U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/>
                            </m:sSup>
                          </m:den>
                        </m:f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Y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Sup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U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Sup>
                                  <m:e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</m:e>
                            </m:nary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9"/>
              <p:cNvSpPr txBox="1"/>
              <p:nvPr/>
            </p:nvSpPr>
            <p:spPr>
              <a:xfrm>
                <a:off x="5562720" y="380880"/>
                <a:ext cx="3303360" cy="6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i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</m:e>
                    </m:nary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i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Garamond"/>
              </a:rPr>
              <a:t>The modified G-S for LF</a:t>
            </a:r>
            <a:endParaRPr b="0" lang="en-US" sz="36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60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To speed up convergence, acceleration factors can be used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257040" indent="-257040">
              <a:spcBef>
                <a:spcPts val="60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257040" indent="-257040">
              <a:spcBef>
                <a:spcPts val="60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The modified Gauss-Seidel method applies corrections to voltages computed in the current iteration based on their values from the previous iteration and the deviation for two successive iterations: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1"/>
              <p:cNvSpPr txBox="1"/>
              <p:nvPr/>
            </p:nvSpPr>
            <p:spPr>
              <a:xfrm>
                <a:off x="2590920" y="4419720"/>
                <a:ext cx="35049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U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←</m:t>
                    </m:r>
                    <m:sSub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U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b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U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U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Garamond"/>
              </a:rPr>
              <a:t>Stopping criteria</a:t>
            </a:r>
            <a:endParaRPr b="0" lang="en-US" sz="36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the deviation of the slack bus power injection computed in two successive iterations below a given threshold: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2120" indent="-312120">
              <a:spcBef>
                <a:spcPts val="499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the maximum deviation of bus voltages computed in two successive iterations below a given threshold: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2120" indent="-312120">
              <a:spcBef>
                <a:spcPts val="499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2120" indent="-312120">
              <a:spcBef>
                <a:spcPts val="499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2120" indent="-312120">
              <a:spcBef>
                <a:spcPts val="499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2120" indent="-312120">
              <a:spcBef>
                <a:spcPts val="499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all deviations between bus voltages computed in two successive iterations fall below a given threshold: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2120" indent="-312120">
              <a:spcBef>
                <a:spcPts val="499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1"/>
              <p:cNvSpPr txBox="1"/>
              <p:nvPr/>
            </p:nvSpPr>
            <p:spPr>
              <a:xfrm>
                <a:off x="2614680" y="2471760"/>
                <a:ext cx="322884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lack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 </m:t>
                        </m:r>
                        <m:sSub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S</m:t>
                                </m:r>
                              </m:e>
                            </m:ba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lack</m:t>
                            </m:r>
                          </m:sub>
                          <m:sup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S</m:t>
                                </m:r>
                              </m:e>
                            </m:ba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lack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e>
                    </m:d>
                    <m:r>
                      <m:t xml:space="preserve"> </m:t>
                    </m:r>
                    <m:r>
                      <m:t xml:space="preserve">≤</m:t>
                    </m:r>
                    <m:r>
                      <m:t xml:space="preserve"> 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3"/>
              <p:cNvSpPr txBox="1"/>
              <p:nvPr/>
            </p:nvSpPr>
            <p:spPr>
              <a:xfrm>
                <a:off x="2895480" y="3886200"/>
                <a:ext cx="31719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limLow>
                      <m:e>
                        <m:eqArr>
                          <m:e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e>
                        </m:eqArr>
                      </m:e>
                      <m:lim>
                        <m:r>
                          <m:t xml:space="preserve">i</m:t>
                        </m:r>
                        <m:r>
                          <m:t xml:space="preserve">≠</m:t>
                        </m:r>
                        <m:r>
                          <m:t xml:space="preserve">e</m:t>
                        </m:r>
                      </m:lim>
                    </m:limLow>
                    <m:r>
                      <m:t xml:space="preserve"> 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 </m:t>
                        </m:r>
                        <m:sSub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U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U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e>
                    </m:d>
                    <m:r>
                      <m:t xml:space="preserve"> </m:t>
                    </m:r>
                    <m:r>
                      <m:t xml:space="preserve">≤</m:t>
                    </m:r>
                    <m:r>
                      <m:t xml:space="preserve"> 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5"/>
              <p:cNvSpPr txBox="1"/>
              <p:nvPr/>
            </p:nvSpPr>
            <p:spPr>
              <a:xfrm>
                <a:off x="2590920" y="5486400"/>
                <a:ext cx="160020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 </m:t>
                        </m:r>
                        <m:sSub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U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U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e>
                    </m:d>
                    <m:r>
                      <m:t xml:space="preserve"> </m:t>
                    </m:r>
                    <m:r>
                      <m:t xml:space="preserve">≤</m:t>
                    </m:r>
                    <m:r>
                      <m:t xml:space="preserve"> </m:t>
                    </m:r>
                    <m:r>
                      <m:t xml:space="preserve">ε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7"/>
              <p:cNvSpPr txBox="1"/>
              <p:nvPr/>
            </p:nvSpPr>
            <p:spPr>
              <a:xfrm>
                <a:off x="5105520" y="5562720"/>
                <a:ext cx="129996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Garamond"/>
              </a:rPr>
              <a:t>Next…</a:t>
            </a:r>
            <a:endParaRPr b="0" lang="en-US" sz="36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The Newton-Raphson LF method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4" name="Titlu 1"/>
          <p:cNvSpPr/>
          <p:nvPr/>
        </p:nvSpPr>
        <p:spPr>
          <a:xfrm>
            <a:off x="1752480" y="5334120"/>
            <a:ext cx="68580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Garamond"/>
              </a:rPr>
              <a:t>thank you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Garamond"/>
              </a:rPr>
              <a:t>The Gauss-Seidel method</a:t>
            </a:r>
            <a:endParaRPr b="0" lang="en-US" sz="36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98720" indent="-198720">
              <a:spcBef>
                <a:spcPts val="700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The Gauss-Seidel (GS) load flow method is one of the first developed for computer-aided analysis of EPS steady state, back in the years 1950.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marL="198720" indent="-198720">
              <a:spcBef>
                <a:spcPts val="700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marL="198720" indent="-198720">
              <a:spcBef>
                <a:spcPts val="700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Its simple, yet precise algorithm makes it usable on low performance computer configurations.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Garamond"/>
              </a:rPr>
              <a:t>The good and the bad</a:t>
            </a:r>
            <a:endParaRPr b="0" lang="en-US" sz="36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649800" indent="-315360">
              <a:spcBef>
                <a:spcPts val="499"/>
              </a:spcBef>
              <a:buClr>
                <a:srgbClr val="9f293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its algorithm is simple, short and easy to implement using any programming languag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649800" indent="-315360">
              <a:spcBef>
                <a:spcPts val="499"/>
              </a:spcBef>
              <a:buClr>
                <a:srgbClr val="9f293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ensures convergence in some special cases where the Newton-Raphson algorithm fails, such as operating states close to instability, or when the initial approximation for the solution is chosen too far from the exact solution.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332640" indent="-332640">
              <a:spcBef>
                <a:spcPts val="60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disadvantages: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649800" indent="-315360">
              <a:spcBef>
                <a:spcPts val="499"/>
              </a:spcBef>
              <a:buClr>
                <a:srgbClr val="9f293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requires a high number of iterations, which grows woth the EPS siz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649800" indent="-315360">
              <a:spcBef>
                <a:spcPts val="499"/>
              </a:spcBef>
              <a:buClr>
                <a:srgbClr val="9f293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it is considered that the precision of the results is somewhat lower than for the Newton-Raphson method.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Garamond"/>
              </a:rPr>
              <a:t>Still used today….</a:t>
            </a:r>
            <a:endParaRPr b="0" lang="en-US" sz="36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94" name="CasetăText 3"/>
          <p:cNvSpPr/>
          <p:nvPr/>
        </p:nvSpPr>
        <p:spPr>
          <a:xfrm>
            <a:off x="762120" y="434340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ladin Design Base (EDS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CasetăText 4"/>
          <p:cNvSpPr/>
          <p:nvPr/>
        </p:nvSpPr>
        <p:spPr>
          <a:xfrm>
            <a:off x="6248520" y="32004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4419720" y="3657600"/>
            <a:ext cx="4305240" cy="2781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533520" y="1219320"/>
            <a:ext cx="5128920" cy="2957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Garamond"/>
              </a:rPr>
              <a:t>The general mathematical model</a:t>
            </a:r>
            <a:br>
              <a:rPr sz="3600"/>
            </a:br>
            <a:endParaRPr b="0" lang="en-US" sz="36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1"/>
              <p:cNvSpPr txBox="1"/>
              <p:nvPr/>
            </p:nvSpPr>
            <p:spPr>
              <a:xfrm>
                <a:off x="2362320" y="2362320"/>
                <a:ext cx="418284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3"/>
              <p:cNvSpPr txBox="1"/>
              <p:nvPr/>
            </p:nvSpPr>
            <p:spPr>
              <a:xfrm>
                <a:off x="2514600" y="4267080"/>
                <a:ext cx="396540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430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For any linear  equations system, written a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5"/>
              <p:cNvSpPr txBox="1"/>
              <p:nvPr/>
            </p:nvSpPr>
            <p:spPr>
              <a:xfrm>
                <a:off x="3429000" y="6248520"/>
                <a:ext cx="22622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  <m:r>
                      <m:t xml:space="preserve">⋅</m:t>
                    </m:r>
                    <m:r>
                      <m:t xml:space="preserve">[</m:t>
                    </m:r>
                    <m:r>
                      <m:t xml:space="preserve">x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Garamond"/>
              </a:rPr>
              <a:t>The general recurrence rule:</a:t>
            </a:r>
            <a:endParaRPr b="0" lang="en-US" sz="36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1"/>
              <p:cNvSpPr txBox="1"/>
              <p:nvPr/>
            </p:nvSpPr>
            <p:spPr>
              <a:xfrm>
                <a:off x="990720" y="2819520"/>
                <a:ext cx="2332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−</m:t>
                    </m:r>
                    <m:r>
                      <m:t xml:space="preserve">[</m:t>
                    </m:r>
                    <m:r>
                      <m:t xml:space="preserve">P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3"/>
              <p:cNvSpPr txBox="1"/>
              <p:nvPr/>
            </p:nvSpPr>
            <p:spPr>
              <a:xfrm>
                <a:off x="4876920" y="2209680"/>
                <a:ext cx="34509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⋅</m:t>
                    </m:r>
                    <m:r>
                      <m:t xml:space="preserve">[</m:t>
                    </m:r>
                    <m:r>
                      <m:t xml:space="preserve">x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P</m:t>
                    </m:r>
                    <m:r>
                      <m:t xml:space="preserve">]</m:t>
                    </m:r>
                    <m:r>
                      <m:t xml:space="preserve">⋅</m:t>
                    </m:r>
                    <m:r>
                      <m:t xml:space="preserve">[</m:t>
                    </m:r>
                    <m:r>
                      <m:t xml:space="preserve">x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[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5"/>
              <p:cNvSpPr txBox="1"/>
              <p:nvPr/>
            </p:nvSpPr>
            <p:spPr>
              <a:xfrm>
                <a:off x="914400" y="1981080"/>
                <a:ext cx="22622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  <m:r>
                      <m:t xml:space="preserve">⋅</m:t>
                    </m:r>
                    <m:r>
                      <m:t xml:space="preserve">[</m:t>
                    </m:r>
                    <m:r>
                      <m:t xml:space="preserve">x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Right Arrow 8"/>
          <p:cNvSpPr/>
          <p:nvPr/>
        </p:nvSpPr>
        <p:spPr>
          <a:xfrm>
            <a:off x="3733920" y="2209680"/>
            <a:ext cx="761760" cy="533520"/>
          </a:xfrm>
          <a:prstGeom prst="rightArrow">
            <a:avLst>
              <a:gd name="adj1" fmla="val 50000"/>
              <a:gd name="adj2" fmla="val 49973"/>
            </a:avLst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6"/>
              <p:cNvSpPr txBox="1"/>
              <p:nvPr/>
            </p:nvSpPr>
            <p:spPr>
              <a:xfrm>
                <a:off x="3809880" y="4343400"/>
                <a:ext cx="4173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⋅</m:t>
                    </m:r>
                    <m:r>
                      <m:t xml:space="preserve">[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P</m:t>
                    </m:r>
                    <m:r>
                      <m:t xml:space="preserve">]</m:t>
                    </m:r>
                    <m:r>
                      <m:t xml:space="preserve">⋅</m:t>
                    </m:r>
                    <m:r>
                      <m:t xml:space="preserve">[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[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Down Arrow 12"/>
          <p:cNvSpPr/>
          <p:nvPr/>
        </p:nvSpPr>
        <p:spPr>
          <a:xfrm>
            <a:off x="6095880" y="3429000"/>
            <a:ext cx="914400" cy="533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8"/>
              <p:cNvSpPr txBox="1"/>
              <p:nvPr/>
            </p:nvSpPr>
            <p:spPr>
              <a:xfrm>
                <a:off x="3948120" y="5222880"/>
                <a:ext cx="468792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N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[</m:t>
                    </m:r>
                    <m:r>
                      <m:t xml:space="preserve">P</m:t>
                    </m:r>
                    <m:r>
                      <m:t xml:space="preserve">]</m:t>
                    </m:r>
                    <m:r>
                      <m:t xml:space="preserve">⋅</m:t>
                    </m:r>
                    <m:r>
                      <m:t xml:space="preserve">[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[</m:t>
                    </m:r>
                    <m:r>
                      <m:t xml:space="preserve">N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[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Garamond"/>
              </a:rPr>
              <a:t>The general GS model</a:t>
            </a:r>
            <a:endParaRPr b="0" lang="en-US" sz="36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Starting from an initial approximation [</a:t>
            </a:r>
            <a:r>
              <a:rPr b="0" i="1" lang="en-US" sz="3000" spc="-1" strike="noStrike">
                <a:solidFill>
                  <a:srgbClr val="000000"/>
                </a:solidFill>
                <a:latin typeface="Franklin Gothic Medium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]</a:t>
            </a:r>
            <a:r>
              <a:rPr b="0" lang="en-US" sz="3000" spc="-1" strike="noStrike" baseline="30000">
                <a:solidFill>
                  <a:srgbClr val="000000"/>
                </a:solidFill>
                <a:latin typeface="Franklin Gothic Medium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, in an iterative process, a chain of successive approximations [</a:t>
            </a:r>
            <a:r>
              <a:rPr b="0" i="1" lang="en-US" sz="3000" spc="-1" strike="noStrike">
                <a:solidFill>
                  <a:srgbClr val="000000"/>
                </a:solidFill>
                <a:latin typeface="Franklin Gothic Medium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]</a:t>
            </a:r>
            <a:r>
              <a:rPr b="0" lang="en-US" sz="3000" spc="-1" strike="noStrike" baseline="30000">
                <a:solidFill>
                  <a:srgbClr val="000000"/>
                </a:solidFill>
                <a:latin typeface="Franklin Gothic Medium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, [</a:t>
            </a:r>
            <a:r>
              <a:rPr b="0" i="1" lang="en-US" sz="3000" spc="-1" strike="noStrike">
                <a:solidFill>
                  <a:srgbClr val="000000"/>
                </a:solidFill>
                <a:latin typeface="Franklin Gothic Medium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]</a:t>
            </a:r>
            <a:r>
              <a:rPr b="0" lang="en-US" sz="3000" spc="-1" strike="noStrike" baseline="30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, [</a:t>
            </a:r>
            <a:r>
              <a:rPr b="0" i="1" lang="en-US" sz="3000" spc="-1" strike="noStrike">
                <a:solidFill>
                  <a:srgbClr val="000000"/>
                </a:solidFill>
                <a:latin typeface="Franklin Gothic Medium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]</a:t>
            </a:r>
            <a:r>
              <a:rPr b="0" lang="en-US" sz="3000" spc="-1" strike="noStrike" baseline="30000">
                <a:solidFill>
                  <a:srgbClr val="000000"/>
                </a:solidFill>
                <a:latin typeface="Franklin Gothic Medium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, … can be computed, which, in certain scenarios, converges to the exact solution.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marL="329040" indent="-329040">
              <a:spcBef>
                <a:spcPts val="75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Usually, matrices [</a:t>
            </a:r>
            <a:r>
              <a:rPr b="0" i="1" lang="en-US" sz="3000" spc="-1" strike="noStrike">
                <a:solidFill>
                  <a:srgbClr val="000000"/>
                </a:solidFill>
                <a:latin typeface="Franklin Gothic Medium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] and [</a:t>
            </a:r>
            <a:r>
              <a:rPr b="0" i="1" lang="en-US" sz="3000" spc="-1" strike="noStrike">
                <a:solidFill>
                  <a:srgbClr val="000000"/>
                </a:solidFill>
                <a:latin typeface="Franklin Gothic Medium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] are defined based on the standard decomposition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marL="329040" indent="-329040">
              <a:spcBef>
                <a:spcPts val="75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marL="329040" indent="-329040">
              <a:spcBef>
                <a:spcPts val="75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1"/>
              <p:cNvSpPr txBox="1"/>
              <p:nvPr/>
            </p:nvSpPr>
            <p:spPr>
              <a:xfrm>
                <a:off x="2133720" y="5486400"/>
                <a:ext cx="41068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L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[</m:t>
                    </m:r>
                    <m:r>
                      <m:t xml:space="preserve">D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[</m:t>
                    </m:r>
                    <m:r>
                      <m:t xml:space="preserve">R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Garamond"/>
              </a:rPr>
              <a:t>The general SG model</a:t>
            </a:r>
            <a:endParaRPr b="0" lang="en-US" sz="36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[L] (left) is an lower triangular matrix (with thr elements below the main diagonal taken from matrix [A])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60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60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[D] is a diagonal matrix, with the elements from the main diagonal equal to the main diagonal elements of matrix [A]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60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60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[R] (right) is an lower triangular matrix, with elements above the main diagonal taken from matrix [A].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60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533520" y="456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Fpr the Gauss-Seidel method,</a:t>
            </a:r>
            <a:r>
              <a:rPr b="0" lang="ro-RO" sz="2800" spc="-1" strike="noStrike">
                <a:solidFill>
                  <a:srgbClr val="000000"/>
                </a:solidFill>
                <a:latin typeface="Franklin Gothic Medium"/>
              </a:rPr>
              <a:t> matrice</a:t>
            </a: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s</a:t>
            </a:r>
            <a:r>
              <a:rPr b="0" lang="ro-RO" sz="2800" spc="-1" strike="noStrike">
                <a:solidFill>
                  <a:srgbClr val="000000"/>
                </a:solidFill>
                <a:latin typeface="Franklin Gothic Medium"/>
              </a:rPr>
              <a:t> [</a:t>
            </a:r>
            <a:r>
              <a:rPr b="0" i="1" lang="ro-RO" sz="2800" spc="-1" strike="noStrike">
                <a:solidFill>
                  <a:srgbClr val="000000"/>
                </a:solidFill>
                <a:latin typeface="Franklin Gothic Medium"/>
              </a:rPr>
              <a:t>N</a:t>
            </a:r>
            <a:r>
              <a:rPr b="0" lang="ro-RO" sz="2800" spc="-1" strike="noStrike">
                <a:solidFill>
                  <a:srgbClr val="000000"/>
                </a:solidFill>
                <a:latin typeface="Franklin Gothic Medium"/>
              </a:rPr>
              <a:t>] </a:t>
            </a: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and</a:t>
            </a:r>
            <a:r>
              <a:rPr b="0" lang="ro-RO" sz="2800" spc="-1" strike="noStrike">
                <a:solidFill>
                  <a:srgbClr val="000000"/>
                </a:solidFill>
                <a:latin typeface="Franklin Gothic Medium"/>
              </a:rPr>
              <a:t> [</a:t>
            </a:r>
            <a:r>
              <a:rPr b="0" i="1" lang="ro-RO" sz="2800" spc="-1" strike="noStrike">
                <a:solidFill>
                  <a:srgbClr val="000000"/>
                </a:solidFill>
                <a:latin typeface="Franklin Gothic Medium"/>
              </a:rPr>
              <a:t>P</a:t>
            </a:r>
            <a:r>
              <a:rPr b="0" lang="ro-RO" sz="2800" spc="-1" strike="noStrike">
                <a:solidFill>
                  <a:srgbClr val="000000"/>
                </a:solidFill>
                <a:latin typeface="Franklin Gothic Medium"/>
              </a:rPr>
              <a:t>] </a:t>
            </a: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are</a:t>
            </a:r>
            <a:r>
              <a:rPr b="0" lang="ro-RO" sz="2800" spc="-1" strike="noStrike">
                <a:solidFill>
                  <a:srgbClr val="000000"/>
                </a:solidFill>
                <a:latin typeface="Franklin Gothic Medium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Franklin Gothic Medium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60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And the recurrence formula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75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is thus rewritten as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Which, for a single unknown variable, is written as</a:t>
            </a:r>
            <a:r>
              <a:rPr b="0" lang="ro-RO" sz="2400" spc="-1" strike="noStrike">
                <a:solidFill>
                  <a:srgbClr val="000000"/>
                </a:solidFill>
                <a:latin typeface="Franklin Gothic Medium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1"/>
              <p:cNvSpPr txBox="1"/>
              <p:nvPr/>
            </p:nvSpPr>
            <p:spPr>
              <a:xfrm>
                <a:off x="1981080" y="2438280"/>
                <a:ext cx="36608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⋅</m:t>
                    </m:r>
                    <m:r>
                      <m:t xml:space="preserve">[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P</m:t>
                    </m:r>
                    <m:r>
                      <m:t xml:space="preserve">]</m:t>
                    </m:r>
                    <m:r>
                      <m:t xml:space="preserve">⋅</m:t>
                    </m:r>
                    <m:r>
                      <m:t xml:space="preserve">[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[</m:t>
                    </m:r>
                    <m:r>
                      <m:t xml:space="preserve">b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3"/>
              <p:cNvSpPr txBox="1"/>
              <p:nvPr/>
            </p:nvSpPr>
            <p:spPr>
              <a:xfrm>
                <a:off x="1981080" y="1523880"/>
                <a:ext cx="221004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D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[</m:t>
                    </m:r>
                    <m:r>
                      <m:t xml:space="preserve">L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5"/>
              <p:cNvSpPr txBox="1"/>
              <p:nvPr/>
            </p:nvSpPr>
            <p:spPr>
              <a:xfrm>
                <a:off x="5486400" y="1523880"/>
                <a:ext cx="15238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P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R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7"/>
              <p:cNvSpPr txBox="1"/>
              <p:nvPr/>
            </p:nvSpPr>
            <p:spPr>
              <a:xfrm>
                <a:off x="2017800" y="3733920"/>
                <a:ext cx="45352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[</m:t>
                    </m:r>
                    <m:r>
                      <m:t xml:space="preserve">D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[</m:t>
                    </m:r>
                    <m:r>
                      <m:t xml:space="preserve">L</m:t>
                    </m:r>
                    <m:r>
                      <m:t xml:space="preserve">]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[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b</m:t>
                    </m:r>
                    <m:r>
                      <m:t xml:space="preserve">]</m:t>
                    </m:r>
                    <m:r>
                      <m:t xml:space="preserve">−</m:t>
                    </m:r>
                    <m:r>
                      <m:t xml:space="preserve">[</m:t>
                    </m:r>
                    <m:r>
                      <m:t xml:space="preserve">R</m:t>
                    </m:r>
                    <m:r>
                      <m:t xml:space="preserve">]</m:t>
                    </m:r>
                    <m:r>
                      <m:t xml:space="preserve">⋅</m:t>
                    </m:r>
                    <m:r>
                      <m:t xml:space="preserve">[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9"/>
              <p:cNvSpPr txBox="1"/>
              <p:nvPr/>
            </p:nvSpPr>
            <p:spPr>
              <a:xfrm>
                <a:off x="2133720" y="5105520"/>
                <a:ext cx="42940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i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</m:e>
                    </m:nary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i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5" name="Rectangle 13"/>
          <p:cNvSpPr/>
          <p:nvPr/>
        </p:nvSpPr>
        <p:spPr>
          <a:xfrm>
            <a:off x="6787080" y="533412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= 1,…,</a:t>
            </a: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06:54:16Z</dcterms:created>
  <dc:creator>Hermes</dc:creator>
  <dc:description/>
  <dc:language>en-US</dc:language>
  <cp:lastModifiedBy>Flyer</cp:lastModifiedBy>
  <dcterms:modified xsi:type="dcterms:W3CDTF">2014-12-02T17:09:33Z</dcterms:modified>
  <cp:revision>65</cp:revision>
  <dc:subject/>
  <dc:title>Sisteme electroenergetice  - laborator recapitulativ -</dc:title>
</cp:coreProperties>
</file>