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514-A038-4645-98DF-CEC934A8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CA0-C0D0-47BA-98F6-CFF75A9C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0F5-1DC3-4946-BE35-57063BB3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4FB-B081-413E-B823-4D022407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EE62-4A00-4036-A0EB-CF20A387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F360-17B4-43D8-BCB5-7DF60506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784E-03F2-4E16-B87B-4E96131C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987E-5C49-4C6F-A057-2A1BDB27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6B1E-C1D6-458D-96F3-47792F36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821C-E74F-461B-BA80-42C95645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842D-1D23-4D50-8B13-A3406FD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24B-2D45-4FD2-AE57-52F04219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9512-3D57-4446-9956-A31500EA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9B01-B2D1-4F3B-87C5-7EBAC873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F2D1-52E1-4122-A473-2EE30568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6E4-D4B4-4F73-B733-48F25EE5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104E-FE90-4F3C-9847-491151FA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328-BD04-479C-9FA3-3832537E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760-B998-44DB-9DEF-E5770041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32F-6B9E-441F-A8E5-E38116BB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52C-67A5-486E-B76D-5963C638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9C6-0099-4134-9534-DD6069D7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CA3-2F66-4759-B587-18FE10E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F18-3059-435F-BD7E-0993023C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75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39920" indent="-316080">
              <a:spcBef>
                <a:spcPts val="751"/>
              </a:spcBef>
              <a:buClr>
                <a:srgbClr val="9f293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81200" indent="-339840">
              <a:spcBef>
                <a:spcPts val="751"/>
              </a:spcBef>
              <a:buClr>
                <a:srgbClr val="f07f0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76C5-9A60-49F3-8F78-767C81D5747E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75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39920" indent="-316080">
              <a:spcBef>
                <a:spcPts val="751"/>
              </a:spcBef>
              <a:buClr>
                <a:srgbClr val="9f293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81200" indent="-339840">
              <a:spcBef>
                <a:spcPts val="751"/>
              </a:spcBef>
              <a:buClr>
                <a:srgbClr val="f07f0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AFAF-FAF9-42D0-905C-4C58942B6E52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2.12.2014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086600" y="1219320"/>
            <a:ext cx="1828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9f2936"/>
                </a:solidFill>
                <a:latin typeface="Arial Narrow"/>
              </a:rPr>
              <a:t>0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762120" y="1371600"/>
            <a:ext cx="7623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Monitoring and Management</a:t>
            </a:r>
            <a:br>
              <a:rPr sz="4000"/>
            </a:b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of Electrical Systems </a:t>
            </a:r>
            <a:br>
              <a:rPr sz="5000"/>
            </a:br>
            <a:r>
              <a:rPr b="0" lang="en-US" sz="5000" spc="-1" strike="noStrike">
                <a:solidFill>
                  <a:srgbClr val="323232"/>
                </a:solidFill>
                <a:latin typeface="Garamond"/>
              </a:rPr>
              <a:t> </a:t>
            </a:r>
            <a:r>
              <a:rPr b="0" lang="en-US" sz="3400" spc="-1" strike="noStrike">
                <a:solidFill>
                  <a:srgbClr val="323232"/>
                </a:solidFill>
                <a:latin typeface="Garamond"/>
              </a:rPr>
              <a:t>- the Newton-Raphson LF method -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wton-Raphson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admittances are written in algebraic 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Voltages are written in polar 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6248520" y="2057400"/>
                <a:ext cx="1825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6248520" y="2666880"/>
                <a:ext cx="1325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j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1905120" y="3505320"/>
                <a:ext cx="5294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[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1944720" y="4495680"/>
                <a:ext cx="5294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[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7086600" y="5562720"/>
                <a:ext cx="12193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wton-Raphson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n an all-PQ bus system,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mpu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ith an initial guess for the voltages, results a difference between the real and computed load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7086600" y="5562720"/>
                <a:ext cx="12193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2666880" y="3657600"/>
                <a:ext cx="3749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Δ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666880" y="4800600"/>
                <a:ext cx="3810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Δ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wton-Raphson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or easing the computation,        are replaced with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nd the above equations are rewritten a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7086600" y="5562720"/>
                <a:ext cx="12193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5257800" y="1676520"/>
                <a:ext cx="523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533520" y="2209680"/>
                <a:ext cx="968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1752480" y="2971800"/>
                <a:ext cx="533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1"/>
              <p:cNvSpPr txBox="1"/>
              <p:nvPr/>
            </p:nvSpPr>
            <p:spPr>
              <a:xfrm>
                <a:off x="1905120" y="4267080"/>
                <a:ext cx="5151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wton-Raphson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-442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n matrix form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44280" indent="-442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44280" indent="-442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44280" indent="-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non-linear system with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44280" indent="-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2*(N-1) unknowns,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44280" indent="-44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bus voltage mag. and angle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44280" indent="-442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44280" indent="-44280">
              <a:lnSpc>
                <a:spcPct val="100000"/>
              </a:lnSpc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, J, L 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 form de Jacobian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44280" indent="-442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or PV buses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 are missing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7467480" y="3505320"/>
                <a:ext cx="914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4495680" cy="25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wton-Raphson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4038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olved iteratively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"/>
              <p:cNvSpPr txBox="1"/>
              <p:nvPr/>
            </p:nvSpPr>
            <p:spPr>
              <a:xfrm>
                <a:off x="914400" y="1295280"/>
                <a:ext cx="6510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762120" y="2209680"/>
                <a:ext cx="4930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2743200" y="4952880"/>
            <a:ext cx="3581280" cy="88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5400000">
            <a:off x="-2400120" y="285732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23232"/>
                </a:solidFill>
                <a:latin typeface="Garamond"/>
              </a:rPr>
              <a:t>The Newton-Raphson algorithm</a:t>
            </a:r>
            <a:endParaRPr b="0" lang="en-US" sz="3400" spc="-1" strike="noStrike">
              <a:solidFill>
                <a:srgbClr val="323232"/>
              </a:solidFill>
              <a:latin typeface="Garamond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rcRect l="0" t="0" r="0" b="1204"/>
          <a:stretch/>
        </p:blipFill>
        <p:spPr>
          <a:xfrm>
            <a:off x="1295280" y="76320"/>
            <a:ext cx="7391520" cy="641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Newton-Raphson variants</a:t>
            </a:r>
            <a:endParaRPr b="0" lang="en-US" sz="40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599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decoupled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02600" indent="-10260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a low correlation between the pairs of components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P-U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Q-θ,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which is equivalent to small values for the               and         derivatives, which can be eliminated from the mathematical model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102600" indent="-10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02600" indent="-10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N, J = 0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02600" indent="-1026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"/>
              <p:cNvSpPr txBox="1"/>
              <p:nvPr/>
            </p:nvSpPr>
            <p:spPr>
              <a:xfrm>
                <a:off x="1828800" y="3581280"/>
                <a:ext cx="1222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P</m:t>
                    </m:r>
                    <m:r>
                      <m:t xml:space="preserve">/</m:t>
                    </m:r>
                    <m:r>
                      <m:t xml:space="preserve">∂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1828800" y="4038480"/>
                <a:ext cx="11793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Q</m:t>
                    </m:r>
                    <m:r>
                      <m:t xml:space="preserve">/</m:t>
                    </m:r>
                    <m:r>
                      <m:t xml:space="preserve">∂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ight Brace 7"/>
          <p:cNvSpPr/>
          <p:nvPr/>
        </p:nvSpPr>
        <p:spPr>
          <a:xfrm>
            <a:off x="3429000" y="350532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914400"/>
              <a:gd name="textAreaBottom" fmla="*/ 878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9"/>
                  <a:pt x="10800" y="2697"/>
                </a:cubicBezTo>
                <a:lnTo>
                  <a:pt x="10800" y="8103"/>
                </a:lnTo>
                <a:cubicBezTo>
                  <a:pt x="10800" y="9452"/>
                  <a:pt x="16200" y="10800"/>
                  <a:pt x="21600" y="10800"/>
                </a:cubicBezTo>
                <a:cubicBezTo>
                  <a:pt x="16200" y="10800"/>
                  <a:pt x="10800" y="12149"/>
                  <a:pt x="10800" y="13497"/>
                </a:cubicBezTo>
                <a:lnTo>
                  <a:pt x="10800" y="18903"/>
                </a:lnTo>
                <a:cubicBezTo>
                  <a:pt x="10800" y="2025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8"/>
          <p:cNvSpPr/>
          <p:nvPr/>
        </p:nvSpPr>
        <p:spPr>
          <a:xfrm>
            <a:off x="4419720" y="3733920"/>
            <a:ext cx="6858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5562720" y="2500200"/>
                <a:ext cx="685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P</m:t>
                    </m:r>
                    <m:r>
                      <m:t xml:space="preserve">/</m:t>
                    </m:r>
                    <m:r>
                      <m:t xml:space="preserve">∂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7010280" y="2514600"/>
                <a:ext cx="649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Q</m:t>
                    </m:r>
                    <m:r>
                      <m:t xml:space="preserve">/</m:t>
                    </m:r>
                    <m:r>
                      <m:t xml:space="preserve">∂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0" name="Picture 11" descr=""/>
          <p:cNvPicPr/>
          <p:nvPr/>
        </p:nvPicPr>
        <p:blipFill>
          <a:blip r:embed="rId1"/>
          <a:stretch/>
        </p:blipFill>
        <p:spPr>
          <a:xfrm>
            <a:off x="4724280" y="4419720"/>
            <a:ext cx="41245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Newton-Raphson variants</a:t>
            </a:r>
            <a:endParaRPr b="0" lang="en-US" sz="40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599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ast decoupled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30320" indent="-130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30320" indent="-1303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130320" indent="-13032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ight Brace 7"/>
          <p:cNvSpPr/>
          <p:nvPr/>
        </p:nvSpPr>
        <p:spPr>
          <a:xfrm>
            <a:off x="3352680" y="2362320"/>
            <a:ext cx="381240" cy="3200400"/>
          </a:xfrm>
          <a:custGeom>
            <a:avLst/>
            <a:gdLst>
              <a:gd name="textAreaLeft" fmla="*/ 0 w 381240"/>
              <a:gd name="textAreaRight" fmla="*/ 137520 w 381240"/>
              <a:gd name="textAreaTop" fmla="*/ 66600 h 3200400"/>
              <a:gd name="textAreaBottom" fmla="*/ 31338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9"/>
                  <a:pt x="10800" y="1438"/>
                </a:cubicBezTo>
                <a:lnTo>
                  <a:pt x="10800" y="9062"/>
                </a:lnTo>
                <a:cubicBezTo>
                  <a:pt x="10800" y="9781"/>
                  <a:pt x="16200" y="10500"/>
                  <a:pt x="21600" y="10500"/>
                </a:cubicBezTo>
                <a:cubicBezTo>
                  <a:pt x="16200" y="10500"/>
                  <a:pt x="10800" y="11219"/>
                  <a:pt x="10800" y="11938"/>
                </a:cubicBezTo>
                <a:lnTo>
                  <a:pt x="10800" y="20162"/>
                </a:lnTo>
                <a:cubicBezTo>
                  <a:pt x="10800" y="208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ight Arrow 8"/>
          <p:cNvSpPr/>
          <p:nvPr/>
        </p:nvSpPr>
        <p:spPr>
          <a:xfrm>
            <a:off x="4191120" y="3733920"/>
            <a:ext cx="6858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1533600" y="2438280"/>
                <a:ext cx="1352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6"/>
              <p:cNvSpPr txBox="1"/>
              <p:nvPr/>
            </p:nvSpPr>
            <p:spPr>
              <a:xfrm>
                <a:off x="1595520" y="3048120"/>
                <a:ext cx="842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9"/>
              <p:cNvSpPr txBox="1"/>
              <p:nvPr/>
            </p:nvSpPr>
            <p:spPr>
              <a:xfrm>
                <a:off x="1676520" y="3581280"/>
                <a:ext cx="749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11"/>
          <p:cNvSpPr/>
          <p:nvPr/>
        </p:nvSpPr>
        <p:spPr>
          <a:xfrm>
            <a:off x="4013640" y="9072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70640" y="45720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-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2"/>
              <p:cNvSpPr txBox="1"/>
              <p:nvPr/>
            </p:nvSpPr>
            <p:spPr>
              <a:xfrm>
                <a:off x="1752480" y="4419720"/>
                <a:ext cx="1584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</m:lim>
                    </m:limUpp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Rectangle 25"/>
          <p:cNvSpPr/>
          <p:nvPr/>
        </p:nvSpPr>
        <p:spPr>
          <a:xfrm>
            <a:off x="1072440" y="51926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4"/>
              <p:cNvSpPr txBox="1"/>
              <p:nvPr/>
            </p:nvSpPr>
            <p:spPr>
              <a:xfrm>
                <a:off x="1828800" y="5029200"/>
                <a:ext cx="111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</m:lim>
                    </m:limUpp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44" name="Picture 16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2787480" cy="2057400"/>
          </a:xfrm>
          <a:prstGeom prst="rect">
            <a:avLst/>
          </a:prstGeom>
          <a:ln w="0">
            <a:noFill/>
          </a:ln>
        </p:spPr>
      </p:pic>
      <p:sp>
        <p:nvSpPr>
          <p:cNvPr id="245" name="Down Arrow 29"/>
          <p:cNvSpPr/>
          <p:nvPr/>
        </p:nvSpPr>
        <p:spPr>
          <a:xfrm>
            <a:off x="6400800" y="5181480"/>
            <a:ext cx="6858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5715000" y="5562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oad flow step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9b268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ild an one-line diagra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9b268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ttach electrical parameters to diagram ele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9b268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mpute the bus admittance matrix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9b268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un the analysis algorithm and compute the main state variables (bus voltages, U, </a:t>
            </a:r>
            <a:r>
              <a:rPr b="0" lang="el-GR" sz="2800" spc="-1" strike="noStrike">
                <a:solidFill>
                  <a:srgbClr val="000000"/>
                </a:solidFill>
                <a:latin typeface="Franklin Gothic Medium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Medium"/>
              </a:rPr>
              <a:t>compute the desired auxiliary variab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Branch power flows and losse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191200" cy="2067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4421160" cy="1114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2209680" y="4952880"/>
            <a:ext cx="3124440" cy="64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oad flow step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9b268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ild an one-line diagra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9b268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ttach electrical parameters to diagram ele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9b268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mpute the bus admittance matrix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Medium"/>
              </a:rPr>
              <a:t>run the analysis algorithm and compute the main state variables (bus voltages, U, </a:t>
            </a:r>
            <a:r>
              <a:rPr b="0" lang="el-GR" sz="2800" spc="-1" strike="noStrike">
                <a:solidFill>
                  <a:srgbClr val="ff0000"/>
                </a:solidFill>
                <a:latin typeface="Franklin Gothic Medium"/>
              </a:rPr>
              <a:t>θ</a:t>
            </a:r>
            <a:r>
              <a:rPr b="0" lang="en-US" sz="2800" spc="-1" strike="noStrike">
                <a:solidFill>
                  <a:srgbClr val="ff0000"/>
                </a:solidFill>
                <a:latin typeface="Franklin Gothic Mediu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mpute the desired auxiliary variab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Other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Branch voltage drop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Branch current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2133360" cy="541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1752480" cy="82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xt…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tate estimation in power systems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Titlu 1"/>
          <p:cNvSpPr/>
          <p:nvPr/>
        </p:nvSpPr>
        <p:spPr>
          <a:xfrm>
            <a:off x="1752480" y="5334120"/>
            <a:ext cx="6858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good and the bad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60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mall number of iteration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60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high precision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60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high computational effort per iteration, due to the recomputing of the Jacobian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and its inverse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60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onvergence problems, when the initial approximation of the solution is too far from the solution or the problem is ill-conditioned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main load flow tool….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4" name="CasetăText 3"/>
          <p:cNvSpPr/>
          <p:nvPr/>
        </p:nvSpPr>
        <p:spPr>
          <a:xfrm>
            <a:off x="762120" y="43434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din Design Base (ED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tăText 4"/>
          <p:cNvSpPr/>
          <p:nvPr/>
        </p:nvSpPr>
        <p:spPr>
          <a:xfrm>
            <a:off x="6248520" y="3200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419720" y="3657600"/>
            <a:ext cx="4305240" cy="278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5128920" cy="295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main load flow tool….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9" name="CasetăText 3"/>
          <p:cNvSpPr/>
          <p:nvPr/>
        </p:nvSpPr>
        <p:spPr>
          <a:xfrm>
            <a:off x="685800" y="55627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SILENT Power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tăText 4"/>
          <p:cNvSpPr/>
          <p:nvPr/>
        </p:nvSpPr>
        <p:spPr>
          <a:xfrm>
            <a:off x="6248520" y="5638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673440" cy="417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39639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Newton-Raphson method principle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r non-linear equation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tarting from an initial approximation of the solution, the function is approximated by its tangent line and the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-intercept of this tangent line it is computed, usually be a better approximation to the function's root than the original gues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ompute  x(1), x(2), x(3)…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until a stopping criterion                              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99360" indent="-99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s me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5" name="Picture 3" descr="300px-NewtonIteration_Ani.gif"/>
          <p:cNvPicPr/>
          <p:nvPr/>
        </p:nvPicPr>
        <p:blipFill>
          <a:blip r:embed="rId1"/>
          <a:stretch/>
        </p:blipFill>
        <p:spPr>
          <a:xfrm>
            <a:off x="914400" y="3048120"/>
            <a:ext cx="4114800" cy="29350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7391520" y="61722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y = f'(x_n) \, (x-x_n) + f(x_n),"/>
          <p:cNvPicPr/>
          <p:nvPr/>
        </p:nvPicPr>
        <p:blipFill>
          <a:blip r:embed="rId2"/>
          <a:stretch/>
        </p:blipFill>
        <p:spPr>
          <a:xfrm>
            <a:off x="5638680" y="3200400"/>
            <a:ext cx="2266920" cy="20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 = f'(x_n) \, (x_{n+1}-x_n) + f(x_n)."/>
          <p:cNvPicPr/>
          <p:nvPr/>
        </p:nvPicPr>
        <p:blipFill>
          <a:blip r:embed="rId3"/>
          <a:stretch/>
        </p:blipFill>
        <p:spPr>
          <a:xfrm>
            <a:off x="5638680" y="3657600"/>
            <a:ext cx="2533680" cy="20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x_{n+1} = x_n - \frac{f(x_n)}{f'(x_n)}. \,\!"/>
          <p:cNvPicPr/>
          <p:nvPr/>
        </p:nvPicPr>
        <p:blipFill>
          <a:blip r:embed="rId4"/>
          <a:stretch/>
        </p:blipFill>
        <p:spPr>
          <a:xfrm>
            <a:off x="5638680" y="4267080"/>
            <a:ext cx="1619280" cy="45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Newton-Raphson model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r non-linear equations system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an initial approximation of the solution,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a vector of functions which defines the non-linear eqns systems,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omputed in point [x] from abov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e “tangent”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88920" indent="-88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"/>
              <p:cNvSpPr txBox="1"/>
              <p:nvPr/>
            </p:nvSpPr>
            <p:spPr>
              <a:xfrm>
                <a:off x="5797440" y="1447920"/>
                <a:ext cx="19749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5791320" y="2362320"/>
                <a:ext cx="18288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ℑ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752480" y="3733920"/>
                <a:ext cx="5207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ℑ</m:t>
                    </m:r>
                    <m:r>
                      <m:t xml:space="preserve">(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ℑ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Δ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ℑ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Δ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1752480" y="4952880"/>
                <a:ext cx="5486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Δ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ℑ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Down Arrow 16"/>
          <p:cNvSpPr/>
          <p:nvPr/>
        </p:nvSpPr>
        <p:spPr>
          <a:xfrm>
            <a:off x="3809880" y="4343400"/>
            <a:ext cx="91440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Newton-Raphson model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s a n-sized square matrix, the </a:t>
            </a:r>
            <a:r>
              <a:rPr b="0" lang="en-US" sz="2000" spc="-1" strike="noStrike">
                <a:solidFill>
                  <a:srgbClr val="ff0000"/>
                </a:solidFill>
                <a:latin typeface="Franklin Gothic Medium"/>
              </a:rPr>
              <a:t>Jacobian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matrix, where any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229680" indent="-2296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s the derivativ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at point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229680" indent="-229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229680" indent="-229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838080" y="1066680"/>
                <a:ext cx="85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)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</m:lim>
                    </m:limUp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838080" y="1523880"/>
                <a:ext cx="11304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∂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∂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2971800" y="2743200"/>
                <a:ext cx="27511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wton-Raphson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Given a system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independent buses, where b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was designed as slack bus, the apparent electrical power associated to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s can be written a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676520" y="3733920"/>
                <a:ext cx="5638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J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</m:sSubSup>
                        <m:r>
                          <m:t xml:space="preserve">⋅</m:t>
                        </m:r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  <m:sup/>
                        </m:sSubSup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6:54:16Z</dcterms:created>
  <dc:creator>Hermes</dc:creator>
  <dc:description/>
  <dc:language>en-US</dc:language>
  <cp:lastModifiedBy>miniONE</cp:lastModifiedBy>
  <dcterms:modified xsi:type="dcterms:W3CDTF">2014-12-12T07:49:23Z</dcterms:modified>
  <cp:revision>77</cp:revision>
  <dc:subject/>
  <dc:title>Sisteme electroenergetice  - laborator recapitulativ -</dc:title>
</cp:coreProperties>
</file>